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applause.wav" ContentType="audio/x-wav"/>
  <Override PartName="/ppt/media/glass.wav" ContentType="audio/x-wav"/>
  <Override PartName="/ppt/media/chimes.wav" ContentType="audio/x-wav"/>
  <Override PartName="/ppt/media/ricochet.wav" ContentType="audio/x-wav"/>
  <Override PartName="/ppt/media/clap.wav" ContentType="audio/x-wav"/>
  <Override PartName="/ppt/media/projctor.wav" ContentType="audio/x-wav"/>
  <Override PartName="/ppt/media/drumroll.wav" ContentType="audio/x-wav"/>
  <Override PartName="/ppt/media/image3.jpeg" ContentType="image/jpeg"/>
  <Override PartName="/ppt/media/image5.jpeg" ContentType="image/jpeg"/>
  <Override PartName="/ppt/media/camera.wav" ContentType="audio/x-wav"/>
  <Override PartName="/ppt/media/gunshot.wav" ContentType="audio/x-wav"/>
  <Override PartName="/ppt/media/image12.jpeg" ContentType="image/jpeg"/>
  <Override PartName="/ppt/media/explode.wav" ContentType="audio/x-wav"/>
  <Override PartName="/ppt/media/image7.jpeg" ContentType="image/jpeg"/>
  <Override PartName="/ppt/media/driveby.wav" ContentType="audio/x-wav"/>
  <Override PartName="/ppt/media/laser.wav" ContentType="audio/x-wav"/>
  <Override PartName="/ppt/media/image4.jpeg" ContentType="image/jpeg"/>
  <Override PartName="/ppt/media/type.wav" ContentType="audio/x-wav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679-4FB2-437C-9662-49C4812E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C6B-0598-4442-9F02-925CA574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CA9-435E-4A8C-ACF9-0F84269A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899-5542-41B8-8308-DFA4BC55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A3E3-01ED-40F2-B76E-F2332E98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0CAE-9132-441E-87B5-4F6F9E32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C903-D73E-43F6-A016-5159B2EC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585C-BCF2-493E-A985-BB92932D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EFFC-13BA-4CAF-A079-2FD5BBB1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7A64-37D8-4EF4-98EB-4CD6211E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9EB4-6F99-42D7-99E3-4602B735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67B-C875-4755-B139-DBBF5D24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D74B-D327-4A27-A35D-3DACED35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6D07-6FBB-4FF8-9D5F-D1E95DEB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89E3-A6CC-47A1-858C-1B04522E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BFB3-863F-4442-9368-7AE0F8CD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16C4-A7A2-4BCD-B5F5-8AEFAF9F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9D5-2E25-4761-8703-47F38FFB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E7E-2C16-4334-BF3F-4E40425E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7A1-A02F-4642-898C-EEDEDBA7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01F-6566-402A-9511-826191AD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87A-EC5B-4250-9CE7-61FE6375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A23-B999-48DB-BB72-8098BFE9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313-F69F-44A6-B2AE-BB167673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1BA4-4186-4FD2-ACD7-3DEE333543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5CD5-D9BE-4C8A-997A-1628A35325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ricochet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laser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iveby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COLOGY WORDS 22-24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2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PREDATOR/PREY RELATIONSHIP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A relationship between animals that eat other animals and the animals that they ea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The animal that does the hunting and eating is called the predato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The animal that gets eaten is the pre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85920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35053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5050"/>
                </a:solidFill>
                <a:latin typeface="Times New Roman"/>
              </a:rPr>
              <a:t>EXAMPLES OF PREDATOR/PREY </a:t>
            </a:r>
            <a:r>
              <a:rPr b="0" i="1" lang="en-US" sz="3600" spc="-1" strike="noStrike">
                <a:solidFill>
                  <a:srgbClr val="ff5050"/>
                </a:solidFill>
                <a:latin typeface="Times New Roman"/>
              </a:rPr>
              <a:t>RELATIONSHIP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shark and a fish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zebra  and a l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mouse and an owl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bear and a salm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4265640"/>
            <a:ext cx="388620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343400" y="40384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267080" y="1752480"/>
            <a:ext cx="38102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3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SCAVENGER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An animal that eats the leftover food of another anim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rue scavengers will not kill their own f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Many animals will fill the niche of scavenger in their life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4103640"/>
            <a:ext cx="3657600" cy="275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504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6600"/>
                </a:solidFill>
                <a:latin typeface="Times New Roman"/>
              </a:rPr>
              <a:t>EXAMPLES OF SCAVENG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vulture is a scaveng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Have you ever heard the saying “the vultures are circling”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jackal is another example of a scaveng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809880" cy="2505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457200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4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BALANCE OF NATURE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A positive condition that occurs when each population in an ecosystem has all its needs me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In other words, when there is enough food, shelter, water and space for all the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Like a sea saw on a playgrou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EXAMPLES OF BALANCE OF NATU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5 fish in a ten gallon fish tank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y all have enough food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y also have enough spac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Can you name some more examples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 YOU THINK?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a human fill the niche of a predator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we fill the niche of a pre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2200320"/>
            <a:ext cx="403848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 I DO NOW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 words 22-24 to your diction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you check your check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39:21Z</dcterms:created>
  <dc:creator>Amy Duff</dc:creator>
  <dc:description/>
  <dc:language>en-US</dc:language>
  <cp:lastModifiedBy>Kim Collazo</cp:lastModifiedBy>
  <dcterms:modified xsi:type="dcterms:W3CDTF">2007-11-05T12:57:35Z</dcterms:modified>
  <cp:revision>6</cp:revision>
  <dc:subject/>
  <dc:title>ECOLOGY WORDS 22-24</dc:title>
</cp:coreProperties>
</file>