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jpeg" ContentType="image/jpeg"/>
  <Override PartName="/ppt/media/applause.wav" ContentType="audio/x-wav"/>
  <Override PartName="/ppt/media/glass.wav" ContentType="audio/x-wav"/>
  <Override PartName="/ppt/media/chimes.wav" ContentType="audio/x-wav"/>
  <Override PartName="/ppt/media/ricochet.wav" ContentType="audio/x-wav"/>
  <Override PartName="/ppt/media/clap.wav" ContentType="audio/x-wav"/>
  <Override PartName="/ppt/media/projctor.wav" ContentType="audio/x-wav"/>
  <Override PartName="/ppt/media/drumroll.wav" ContentType="audio/x-wav"/>
  <Override PartName="/ppt/media/image3.jpeg" ContentType="image/jpeg"/>
  <Override PartName="/ppt/media/image5.jpeg" ContentType="image/jpeg"/>
  <Override PartName="/ppt/media/camera.wav" ContentType="audio/x-wav"/>
  <Override PartName="/ppt/media/gunshot.wav" ContentType="audio/x-wav"/>
  <Override PartName="/ppt/media/image12.jpeg" ContentType="image/jpeg"/>
  <Override PartName="/ppt/media/explode.wav" ContentType="audio/x-wav"/>
  <Override PartName="/ppt/media/image7.jpeg" ContentType="image/jpeg"/>
  <Override PartName="/ppt/media/driveby.wav" ContentType="audio/x-wav"/>
  <Override PartName="/ppt/media/laser.wav" ContentType="audio/x-wav"/>
  <Override PartName="/ppt/media/image4.jpeg" ContentType="image/jpeg"/>
  <Override PartName="/ppt/media/type.wav" ContentType="audio/x-wav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32D8-CFC5-49DF-B32E-4FD57173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EE48-1C63-4AF4-93E5-330ABDBC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6A03-8550-492E-B769-895402D6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F946-2C98-4B20-969C-D0265A0CD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3149-FE49-47DE-BF54-0FE908E72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72D8B-6433-4689-A0C3-75E531B96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CC631-8546-46C2-9619-4F220C16D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4603-32CA-4A1C-AFEF-11642F28E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A854-D830-4A2F-8E3B-3544E20C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0EDA2-364A-41F1-A950-296D1475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91E5-B3E0-4209-8FFB-9800C3FE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3A20-2116-4294-A18B-0A00B51C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8081-2E28-4145-8290-481F8C69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C911-494E-4B04-B434-1E120AEA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E90E-7690-4D25-8B82-F74FFB7D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167C1-6BDD-46DE-9C0A-FE5887F5E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AAFF-EFB7-4733-BED3-AA8B81A2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6F5F-9DF5-4E83-A000-73B127B7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026-DFBA-4BF8-8A84-4F62F296E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AFC-BDAA-4686-B98D-C584FAF7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340C-C5CA-4928-BD48-167FAE11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1611-AF4B-42CA-A68A-9E1AF8B9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02D-FC23-40A2-83CF-C4620337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A4B-271B-4CD4-8634-AFA02F06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DA3A-06C5-45C5-B49D-731B9E533FD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73F63-99E7-4529-9DF3-1A695DFCB07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ricochet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drumroll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projctor.wav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laser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driveby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COLOGY WORDS 22-24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2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PREDATOR/PREY RELATIONSHIP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A relationship between animals that eat other animals and the animals that they eat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The animal that does the hunting and eating is called the predato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The animal that gets eaten is the pre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3859200" cy="21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4343400"/>
            <a:ext cx="35053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5050"/>
                </a:solidFill>
                <a:latin typeface="Times New Roman"/>
              </a:rPr>
              <a:t>EXAMPLES OF PREDATOR/PREY </a:t>
            </a:r>
            <a:r>
              <a:rPr b="0" i="1" lang="en-US" sz="3600" spc="-1" strike="noStrike">
                <a:solidFill>
                  <a:srgbClr val="ff5050"/>
                </a:solidFill>
                <a:latin typeface="Times New Roman"/>
              </a:rPr>
              <a:t>RELATIONSHIP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shark and a fish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zebra  and a l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mouse and an owl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bear and a salm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4265640"/>
            <a:ext cx="388620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343400" y="403848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267080" y="1752480"/>
            <a:ext cx="38102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3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SCAVENGER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An animal that eats the leftover food of another anim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True scavengers will not kill their own f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Many animals will fill the niche of scavenger in their life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00600" y="4103640"/>
            <a:ext cx="3657600" cy="275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504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6600"/>
                </a:solidFill>
                <a:latin typeface="Times New Roman"/>
              </a:rPr>
              <a:t>EXAMPLES OF SCAVENG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vulture is a scavenge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Have you ever heard the saying “the vultures are circling”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jackal is another example of a scavenge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3809880" cy="2505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457200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4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BALANCE OF NATURE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A positive condition that occurs when each population in an ecosystem has all its needs met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In other words, when there is enough food, shelter, water and space for all the org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Like a sea saw on a playgrou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Times New Roman"/>
              </a:rPr>
              <a:t>EXAMPLES OF BALANCE OF NATU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5 fish in a ten gallon fish tank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y all have enough food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y also have enough spac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Can you name some more examples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26708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DO YOU THINK???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an a human fill the niche of a predator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an we fill the niche of a prey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2200320"/>
            <a:ext cx="403848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DO I DO NOW??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 words 22-24 to your diction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 sure you check your check li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39:21Z</dcterms:created>
  <dc:creator>Amy Duff</dc:creator>
  <dc:description/>
  <dc:language>en-US</dc:language>
  <cp:lastModifiedBy>Kim Collazo</cp:lastModifiedBy>
  <dcterms:modified xsi:type="dcterms:W3CDTF">2007-11-05T12:57:35Z</dcterms:modified>
  <cp:revision>6</cp:revision>
  <dc:subject/>
  <dc:title>ECOLOGY WORDS 22-24</dc:title>
</cp:coreProperties>
</file>