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explode.wav" ContentType="audio/x-wav"/>
  <Override PartName="/ppt/media/image2.png" ContentType="image/png"/>
  <Override PartName="/ppt/media/glas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FE8-A5CF-45FB-900D-30F866CE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750-EB8E-4B50-8FEB-6C41F01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D80-F00B-48A6-A45B-A41D16AA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0C4-821A-4768-9639-986E5C84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51CF-04C7-4D80-BBBA-53C7C695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2292-1396-42B5-A7DB-90B7264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894C-872D-40A1-A735-E13E231E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0911-85EF-4090-9446-DE64E86E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EBB3-D4BA-4D4C-9BE7-DC23AF5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128-E002-401F-96C3-04934D5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9000-3B13-4C08-B68E-56A6279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6DC-84E5-493B-9DBF-B6F96EB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8CE8-E136-4A32-A114-23B45AF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416-536C-4C38-921C-505974B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601F-614E-4139-A6BD-9668961C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C557-0C72-4AA0-B1CA-DEDA2CF6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C4B-5B2F-4DD1-8FD9-BDB8F452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34D-6575-46FB-9687-B0150995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F4F-7E71-4C42-A9FF-6B333FF1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6EA-E1B3-4535-8410-5D493C1E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47F-5779-4A16-AF3F-BFB2D9D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636-B8D9-4811-B6A5-D4D9D12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95E-3F4F-48F2-8AC0-7A89220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D5F-6631-465A-B8C2-E126D85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D59-8239-4DF1-A30B-21382741EC6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EE5-FD11-4CFB-A0B4-6A9B24C457B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Lucida Handwriting"/>
              </a:rPr>
              <a:t>ECOLOGY WORDS 29-30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WE’RE ALMOST DONE!!!!!!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9.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FOOD WEB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nteraction and dependence of food chains on each oth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s confusing doesn’t it!?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’t worry, it will make sense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08360" y="914400"/>
            <a:ext cx="3773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URN IN YOUR BOOKS TO PAGE 555!!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llustration at the top is a food we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MANY FOOD CHAINS CAN YOU NAM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rt with the produc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llow the purple arrows until they no longer are leaving a pi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w many did you g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 pyramid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odel that demonstrates the numbers of organisms that are producers and the numbers of organisms that are consum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44960" y="1752480"/>
            <a:ext cx="32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of energy pyram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picture in your book on page 557 is a good examp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re is another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168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02:32Z</dcterms:created>
  <dc:creator>Amy Duff</dc:creator>
  <dc:description/>
  <dc:language>en-US</dc:language>
  <cp:lastModifiedBy>Kim Collazo</cp:lastModifiedBy>
  <dcterms:modified xsi:type="dcterms:W3CDTF">2007-11-21T16:34:54Z</dcterms:modified>
  <cp:revision>4</cp:revision>
  <dc:subject/>
  <dc:title> ECOLOGY WORDS 29-30 </dc:title>
</cp:coreProperties>
</file>