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jpeg" ContentType="image/jpeg"/>
  <Override PartName="/ppt/media/applause.wav" ContentType="audio/x-wav"/>
  <Override PartName="/ppt/media/glass.wav" ContentType="audio/x-wav"/>
  <Override PartName="/ppt/media/chimes.wav" ContentType="audio/x-wav"/>
  <Override PartName="/ppt/media/ricochet.wav" ContentType="audio/x-wav"/>
  <Override PartName="/ppt/media/clap.wav" ContentType="audio/x-wav"/>
  <Override PartName="/ppt/media/projctor.wav" ContentType="audio/x-wav"/>
  <Override PartName="/ppt/media/drumroll.wav" ContentType="audio/x-wav"/>
  <Override PartName="/ppt/media/image3.jpeg" ContentType="image/jpeg"/>
  <Override PartName="/ppt/media/image5.jpeg" ContentType="image/jpeg"/>
  <Override PartName="/ppt/media/camera.wav" ContentType="audio/x-wav"/>
  <Override PartName="/ppt/media/gunshot.wav" ContentType="audio/x-wav"/>
  <Override PartName="/ppt/media/image12.jpeg" ContentType="image/jpeg"/>
  <Override PartName="/ppt/media/explode.wav" ContentType="audio/x-wav"/>
  <Override PartName="/ppt/media/image7.jpeg" ContentType="image/jpeg"/>
  <Override PartName="/ppt/media/driveby.wav" ContentType="audio/x-wav"/>
  <Override PartName="/ppt/media/laser.wav" ContentType="audio/x-wav"/>
  <Override PartName="/ppt/media/image4.jpeg" ContentType="image/jpeg"/>
  <Override PartName="/ppt/media/type.wav" ContentType="audio/x-wav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7384-41FF-47FD-A50E-2B7A91BF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0642-48C4-4C31-AC6F-C014A33AC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846-FFD5-43C3-B68E-ED9D9EFDB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1310-FD1C-46E7-BF85-09E418315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C219-FCE0-4262-A985-BD133934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A3AE3-75A5-4713-AC93-16037526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54FD1-9690-4C33-B3D1-ED955BB6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631E-82C7-4C90-8D8D-EBC21A959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1CF2-8A7F-4568-9270-281E663C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2C5F4-3F91-410D-A4A0-3B376FDE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C2B2-088C-4FF7-BE9A-FE19EE98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0C96-E367-4877-911E-73783D80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2FA3-1A1C-4F4F-A310-A9F2561E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9F46-D8E2-41C5-9DF1-A624CDD0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6CA9-4D0D-4500-8E2F-30B8987B6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A8B0F-32D5-40C3-8727-C81C05DF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D03A-67DF-40C3-9D06-45256358A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F0D-657C-40D3-AEF6-AEA6E327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F3A4-AB70-4159-B5CE-6B20CEC8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2CE-F009-42F8-A67F-8AEE349D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ACC-E850-4D0C-8FFF-EE5C1BC5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6354-C40A-402C-B906-64A030A1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EE1A8-DE6A-4CA8-B12B-BB2BC1DF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F59A-DEDA-4255-A5CD-48FC43C5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F36E-1BA7-4901-98EE-17C7FEA15BD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9FC5-0E9D-44E1-A8F1-F9AF4105849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ricochet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drumroll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projctor.wav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laser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driveby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COLOGY WORDS 22-24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2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PREDATOR/PREY RELATIONSHIP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A relationship between animals that eat other animals and the animals that they ea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The animal that does the hunting and eating is called the predato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The animal that gets eaten is the pre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3859200" cy="21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4343400"/>
            <a:ext cx="35053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5050"/>
                </a:solidFill>
                <a:latin typeface="Times New Roman"/>
              </a:rPr>
              <a:t>EXAMPLES OF PREDATOR/PREY </a:t>
            </a:r>
            <a:r>
              <a:rPr b="0" i="1" lang="en-US" sz="3600" spc="-1" strike="noStrike">
                <a:solidFill>
                  <a:srgbClr val="ff5050"/>
                </a:solidFill>
                <a:latin typeface="Times New Roman"/>
              </a:rPr>
              <a:t>RELATIONSHIP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shark and a fish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zebra  and a l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mouse and an owl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bear and a salm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4265640"/>
            <a:ext cx="388620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343400" y="403848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267080" y="1752480"/>
            <a:ext cx="38102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3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SCAVENGER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An animal that eats the leftover food of another anim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True scavengers will not kill their own f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Many animals will fill the niche of scavenger in their life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00600" y="4103640"/>
            <a:ext cx="3657600" cy="275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504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6600"/>
                </a:solidFill>
                <a:latin typeface="Times New Roman"/>
              </a:rPr>
              <a:t>EXAMPLES OF SCAVENG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vulture is a scavenge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Have you ever heard the saying “the vultures are circling”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jackal is another example of a scavenge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3809880" cy="2505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457200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4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BALANCE OF NATURE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A positive condition that occurs when each population in an ecosystem has all its needs me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In other words, when there is enough food, shelter, water and space for all the org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Like a sea saw on a playgrou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EXAMPLES OF BALANCE OF NATU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5 fish in a ten gallon fish tank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y all have enough food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y also have enough spac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Can you name some more examples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26708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DO YOU THINK???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an a human fill the niche of a predator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an we fill the niche of a prey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2200320"/>
            <a:ext cx="403848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DO I DO NOW??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 words 22-24 to your diction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 sure you check your check li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39:21Z</dcterms:created>
  <dc:creator>Amy Duff</dc:creator>
  <dc:description/>
  <dc:language>en-US</dc:language>
  <cp:lastModifiedBy>Kim Collazo</cp:lastModifiedBy>
  <dcterms:modified xsi:type="dcterms:W3CDTF">2007-11-05T12:57:35Z</dcterms:modified>
  <cp:revision>6</cp:revision>
  <dc:subject/>
  <dc:title>ECOLOGY WORDS 22-24</dc:title>
</cp:coreProperties>
</file>