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jpeg" ContentType="image/jpeg"/>
  <Override PartName="/ppt/media/applause.wav" ContentType="audio/x-wav"/>
  <Override PartName="/ppt/media/glass.wav" ContentType="audio/x-wav"/>
  <Override PartName="/ppt/media/chimes.wav" ContentType="audio/x-wav"/>
  <Override PartName="/ppt/media/ricochet.wav" ContentType="audio/x-wav"/>
  <Override PartName="/ppt/media/clap.wav" ContentType="audio/x-wav"/>
  <Override PartName="/ppt/media/projctor.wav" ContentType="audio/x-wav"/>
  <Override PartName="/ppt/media/drumroll.wav" ContentType="audio/x-wav"/>
  <Override PartName="/ppt/media/image3.jpeg" ContentType="image/jpeg"/>
  <Override PartName="/ppt/media/image5.jpeg" ContentType="image/jpeg"/>
  <Override PartName="/ppt/media/camera.wav" ContentType="audio/x-wav"/>
  <Override PartName="/ppt/media/gunshot.wav" ContentType="audio/x-wav"/>
  <Override PartName="/ppt/media/image12.jpeg" ContentType="image/jpeg"/>
  <Override PartName="/ppt/media/explode.wav" ContentType="audio/x-wav"/>
  <Override PartName="/ppt/media/image7.jpeg" ContentType="image/jpeg"/>
  <Override PartName="/ppt/media/driveby.wav" ContentType="audio/x-wav"/>
  <Override PartName="/ppt/media/laser.wav" ContentType="audio/x-wav"/>
  <Override PartName="/ppt/media/image4.jpeg" ContentType="image/jpeg"/>
  <Override PartName="/ppt/media/type.wav" ContentType="audio/x-wav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8C54-1637-45B4-BFA2-3C3035AD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862-1644-4C5C-945F-328A478B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1317-443B-4C42-A552-FA8CCAFE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398-9D29-4A16-96E2-48E579CD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58B9-9D8E-4D37-8074-36326095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2693-F50D-4236-8640-3B03A361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AAAE-BB82-4318-9DA0-580EABCA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DE25-2D6F-4126-9103-75624367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8B36-C32E-4D69-9E46-8CB42D99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E186-E3EB-4FA7-ABF6-25029A53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F05C-C05B-44FC-AA58-ECF4405E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9369-07FA-4D9A-B0DB-AB1F42C9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74A5-58E2-4BBC-BAA0-9ADAF3FD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E3A4-3A00-4B0A-83A7-6C6E72B6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3A36-710D-491F-9080-44015EF8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B6A7-C84D-4419-B096-197DF5F2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E6E9-AEAD-4870-B6F5-97FFC061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48B9-3BBD-441E-91B1-13B903BF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804-49FE-4694-8798-6823C781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B939-BAD6-4479-BD7E-8A6A4FD6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E3C4-15B5-415D-AEA3-5C9F7F38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A63D-1F82-4621-A5F1-2D6415F6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702-DC0C-4371-8516-6B52354E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81A3-A7E4-489E-A689-D6FEC6B5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004D-CE1E-4634-ACD8-BCB4DFE61FA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1DEE-9C17-4051-B64C-0E134991EC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ricochet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drumroll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projctor.wav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laser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driveby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lap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COLOGY WORDS 22-24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99ff"/>
                </a:solidFill>
                <a:latin typeface="Times New Roman"/>
              </a:rPr>
              <a:t>22. </a:t>
            </a: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Times New Roman"/>
              </a:rPr>
              <a:t>PREDATOR/PREY RELATIONSHIP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A relationship between animals that eat other animals and the animals that they eat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The animal that does the hunting and eating is called the predato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The animal that gets eaten is the prey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3859200" cy="21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4343400"/>
            <a:ext cx="35053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5050"/>
                </a:solidFill>
                <a:latin typeface="Times New Roman"/>
              </a:rPr>
              <a:t>EXAMPLES OF PREDATOR/PREY </a:t>
            </a:r>
            <a:r>
              <a:rPr b="0" i="1" lang="en-US" sz="3600" spc="-1" strike="noStrike">
                <a:solidFill>
                  <a:srgbClr val="ff5050"/>
                </a:solidFill>
                <a:latin typeface="Times New Roman"/>
              </a:rPr>
              <a:t>RELATIONSHIP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shark and a fish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zebra  and a li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mouse and an owl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bear and a salm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4265640"/>
            <a:ext cx="3886200" cy="25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343400" y="403848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267080" y="1752480"/>
            <a:ext cx="38102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99ff"/>
                </a:solidFill>
                <a:latin typeface="Times New Roman"/>
              </a:rPr>
              <a:t>23. </a:t>
            </a: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Times New Roman"/>
              </a:rPr>
              <a:t>SCAVENGER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An animal that eats the leftover food of another anim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True scavengers will not kill their own f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Many animals will fill the niche of scavenger in their life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00600" y="4103640"/>
            <a:ext cx="3657600" cy="2754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504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6600"/>
                </a:solidFill>
                <a:latin typeface="Times New Roman"/>
              </a:rPr>
              <a:t>EXAMPLES OF SCAVENG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vulture is a scavenge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Have you ever heard the saying “the vultures are circling”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jackal is another example of a scavenge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3809880" cy="2505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0" y="457200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99ff"/>
                </a:solidFill>
                <a:latin typeface="Times New Roman"/>
              </a:rPr>
              <a:t>24. </a:t>
            </a: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Times New Roman"/>
              </a:rPr>
              <a:t>BALANCE OF NATURE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A positive condition that occurs when each population in an ecosystem has all its needs met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In other words, when there is enough food, shelter, water and space for all the organis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Like a sea saw on a playgrou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Times New Roman"/>
              </a:rPr>
              <a:t>EXAMPLES OF BALANCE OF NATU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5 fish in a ten gallon fish tank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They all have enough food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They also have enough spac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Can you name some more examples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26708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DO YOU THINK???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an a human fill the niche of a predator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an we fill the niche of a prey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19720" y="2200320"/>
            <a:ext cx="403848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DO I DO NOW??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 words 22-24 to your diction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ke sure you check your check li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39:21Z</dcterms:created>
  <dc:creator>Amy Duff</dc:creator>
  <dc:description/>
  <dc:language>en-US</dc:language>
  <cp:lastModifiedBy>Kim Collazo</cp:lastModifiedBy>
  <dcterms:modified xsi:type="dcterms:W3CDTF">2007-11-05T12:57:35Z</dcterms:modified>
  <cp:revision>6</cp:revision>
  <dc:subject/>
  <dc:title>ECOLOGY WORDS 22-24</dc:title>
</cp:coreProperties>
</file>