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applause.wav" ContentType="audio/x-wav"/>
  <Override PartName="/ppt/media/glass.wav" ContentType="audio/x-wav"/>
  <Override PartName="/ppt/media/chimes.wav" ContentType="audio/x-wav"/>
  <Override PartName="/ppt/media/ricochet.wav" ContentType="audio/x-wav"/>
  <Override PartName="/ppt/media/clap.wav" ContentType="audio/x-wav"/>
  <Override PartName="/ppt/media/projctor.wav" ContentType="audio/x-wav"/>
  <Override PartName="/ppt/media/drumroll.wav" ContentType="audio/x-wav"/>
  <Override PartName="/ppt/media/image3.jpeg" ContentType="image/jpeg"/>
  <Override PartName="/ppt/media/image5.jpeg" ContentType="image/jpeg"/>
  <Override PartName="/ppt/media/camera.wav" ContentType="audio/x-wav"/>
  <Override PartName="/ppt/media/gunshot.wav" ContentType="audio/x-wav"/>
  <Override PartName="/ppt/media/image12.jpeg" ContentType="image/jpeg"/>
  <Override PartName="/ppt/media/explode.wav" ContentType="audio/x-wav"/>
  <Override PartName="/ppt/media/image7.jpeg" ContentType="image/jpeg"/>
  <Override PartName="/ppt/media/driveby.wav" ContentType="audio/x-wav"/>
  <Override PartName="/ppt/media/laser.wav" ContentType="audio/x-wav"/>
  <Override PartName="/ppt/media/image4.jpeg" ContentType="image/jpeg"/>
  <Override PartName="/ppt/media/type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whoosh.wav" ContentType="audio/x-wav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B5BC-C567-47A8-8CB9-982783EA2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8D33-E405-4642-B7D5-D199A80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68DE-689C-4374-A9AC-ADD1F79F6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FC62-B2A2-4795-A825-D4F063C22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F41BD-8A2B-4A54-B479-D51422A0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2B6C-8647-459C-AC28-90CE2665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AB8C-1E14-4736-8286-3C8D1E1B3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A1E-BE54-42FB-81C8-B9A8909D4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D3328-3F44-4085-B52C-06A07364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633B-CE06-4314-9E95-EE0E2468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E1F1-D375-4576-84DE-47B04AD9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1080-6455-46D4-B7B4-EDE07C0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8AFD1-C79D-49FD-A03B-623BD9C0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000E-F5FB-428E-9FCA-98555D85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EFD9-A072-4B27-9472-6DBCF350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6660B-E075-4C82-B9F7-F6CF5783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21A8-87AC-4247-A020-598B04F4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6FE-3400-443E-993D-4467AEBCD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8CD2-BC35-47CC-BD67-5931687AC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90FD-85D6-43E0-9E79-83546AF26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D828-EBA9-4D5F-A074-48E31D44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984-4A64-4DF3-B6B0-1D58F8BC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01BB-032A-44EB-AF6E-CB0C79A5F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7411-403B-4DF0-892D-EF30D341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CD53-5614-4B57-B611-99B1E8BAB69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BC1E-A5C4-4C2A-A9D0-06FF1BF71DD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ricochet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audio" Target="../media/laser.wav"/><Relationship Id="rId7" Type="http://schemas.openxmlformats.org/officeDocument/2006/relationships/audio" Target="../media/whoosh.wav"/><Relationship Id="rId8" Type="http://schemas.openxmlformats.org/officeDocument/2006/relationships/audio" Target="../media/camera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projctor.wav"/><Relationship Id="rId10" Type="http://schemas.openxmlformats.org/officeDocument/2006/relationships/audio" Target="../media/camera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laser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applause.wav"/><Relationship Id="rId4" Type="http://schemas.openxmlformats.org/officeDocument/2006/relationships/audio" Target="../media/drumroll.wav"/><Relationship Id="rId5" Type="http://schemas.openxmlformats.org/officeDocument/2006/relationships/audio" Target="../media/drumroll.wav"/><Relationship Id="rId6" Type="http://schemas.openxmlformats.org/officeDocument/2006/relationships/audio" Target="../media/drumroll.wav"/><Relationship Id="rId7" Type="http://schemas.openxmlformats.org/officeDocument/2006/relationships/audio" Target="../media/type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driveby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clap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COLOGY WORDS 22-24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2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PREDATOR/PREY RELATIONSHIP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relationship between animals that eat other animals and the animals that they ea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does the hunting and eating is called the predato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The animal that gets eaten is the prey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3859200" cy="2133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572000" y="4343400"/>
            <a:ext cx="350532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5050"/>
                </a:solidFill>
                <a:latin typeface="Times New Roman"/>
              </a:rPr>
              <a:t>EXAMPLES OF PREDATOR/PREY </a:t>
            </a:r>
            <a:r>
              <a:rPr b="0" i="1" lang="en-US" sz="3600" spc="-1" strike="noStrike">
                <a:solidFill>
                  <a:srgbClr val="ff5050"/>
                </a:solidFill>
                <a:latin typeface="Times New Roman"/>
              </a:rPr>
              <a:t>RELATIONSHIP</a:t>
            </a:r>
            <a:endParaRPr b="0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shark and a fish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zebra  and a li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mouse and an owl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bear and a salmon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80880" y="4265640"/>
            <a:ext cx="3886200" cy="2592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343400" y="4038480"/>
            <a:ext cx="3581280" cy="28195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381024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3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SCAVENGER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An animal that eats the leftover food of another anim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rue scavengers will not kill their own f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Many animals will fill the niche of scavenger in their lifetim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800600" y="4103640"/>
            <a:ext cx="3657600" cy="2754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876920" y="1676520"/>
            <a:ext cx="35049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6600"/>
                </a:solidFill>
                <a:latin typeface="Times New Roman"/>
              </a:rPr>
              <a:t>EXAMPLES OF SCAVENGER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vulture is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Have you ever heard the saying “the vultures are circling”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A jackal is another example of a scavenger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3809880" cy="25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0" y="457200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99ff"/>
                </a:solidFill>
                <a:latin typeface="Times New Roman"/>
              </a:rPr>
              <a:t>24. </a:t>
            </a:r>
            <a:r>
              <a:rPr b="0" i="1" lang="en-US" sz="4400" spc="-1" strike="noStrike" u="sng">
                <a:solidFill>
                  <a:srgbClr val="3399ff"/>
                </a:solidFill>
                <a:uFillTx/>
                <a:latin typeface="Times New Roman"/>
              </a:rPr>
              <a:t>BALANCE OF NATURE-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99ff"/>
                </a:solidFill>
                <a:latin typeface="Times New Roman"/>
              </a:rPr>
              <a:t>A positive condition that occurs when each population in an ecosystem has all its needs met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In other words, when there is enough food, shelter, water and space for all the organism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Like a sea saw on a playgrou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3300"/>
                </a:solidFill>
                <a:latin typeface="Times New Roman"/>
              </a:rPr>
              <a:t>EXAMPLES OF BALANCE OF NATUR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5 fish in a ten gallon fish tank.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l have enough food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y also have enough space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Can you name some more examples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0" y="2362320"/>
            <a:ext cx="4267080" cy="34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YOU THINK?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a human fill the niche of a predator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imes New Roman"/>
              </a:rPr>
              <a:t>Can we fill the niche of a prey?</a:t>
            </a:r>
            <a:endParaRPr b="0" lang="en-US" sz="3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419720" y="2200320"/>
            <a:ext cx="4038480" cy="38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HAT DO I DO NOW???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dd words 22-24 to your diction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ake sure you check your check lis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4:39:21Z</dcterms:created>
  <dc:creator>Amy Duff</dc:creator>
  <dc:description/>
  <dc:language>en-US</dc:language>
  <cp:lastModifiedBy>Kim Collazo</cp:lastModifiedBy>
  <dcterms:modified xsi:type="dcterms:W3CDTF">2007-11-05T12:57:35Z</dcterms:modified>
  <cp:revision>6</cp:revision>
  <dc:subject/>
  <dc:title>ECOLOGY WORDS 22-24</dc:title>
</cp:coreProperties>
</file>