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chimes.wav" ContentType="audio/x-wav"/>
  <Override PartName="/ppt/media/explode.wav" ContentType="audio/x-wav"/>
  <Override PartName="/ppt/media/image2.png" ContentType="image/png"/>
  <Override PartName="/ppt/media/glass.wav" ContentType="audio/x-wav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91F-87F2-4AF8-A99E-029BA2F1C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B1B3-8FB1-40D9-BC21-481C77DB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754B-0F3F-4C16-9A2D-FF7821BEC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9847-F920-46FE-8BE0-A90EE0FD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A090-02A3-4B69-9A72-FB638E791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EB056-AB10-4254-B5DA-D8FBE562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FC66A-EEE0-4DFA-8A1E-AAD3AAA4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BD4D8-2E17-4AE1-A62A-BC9F884FF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C4E9-7974-486A-A438-3CA9AA89A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C0EF-2069-462E-BECA-FFE477407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4BDB-96F2-4C0E-B57C-22558A88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2435-1274-4239-9389-8A005F13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68E8-DD6E-48F4-96B2-0242F76D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B5F2-BCDB-4626-8964-64508E62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BB3AD-C53D-42FB-BC7D-381AF6885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DE20A-295D-4C15-ABCB-CC4D70EDE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99C31-1D00-409F-9738-4F467ED2F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A893-FC26-4821-803D-76936B776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2F5C-6FF2-4650-BF1B-679F58B6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D5D0-3B97-4B2D-A0CF-761D4EB7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0A02-2CB8-45F2-AD06-5EAC698D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1ED1-0FA7-414F-B198-A90BB765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9CE6-F70A-4A9A-80F8-92464A08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85A-3B75-418A-8942-4F75B39F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DB130-CE80-4CD9-BC1D-7027F071D814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05705-8160-41E0-98C9-727EB86D7EFD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Lucida Handwriting"/>
              </a:rPr>
              <a:t>ECOLOGY WORDS 29-30</a:t>
            </a:r>
            <a:br>
              <a:rPr sz="4000"/>
            </a:b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Lucida Handwriting"/>
              </a:rPr>
              <a:t>WE’RE ALMOST DONE!!!!!!!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29.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Tahoma"/>
              </a:rPr>
              <a:t>FOOD WEB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interaction and dependence of food chains on each oth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ooks confusing doesn’t it!?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on’t worry, it will make sense.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08360" y="914400"/>
            <a:ext cx="3773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TURN IN YOUR BOOKS TO PAGE 555!!!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illustration at the top is a food web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HOW MANY FOOD CHAINS CAN YOU NAM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tart with the produc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Follow the purple arrows until they no longer are leaving a pictur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ow many did you get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7960" y="1752480"/>
            <a:ext cx="3809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0.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Energy pyramid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e model that demonstrates the numbers of organisms that are producers and the numbers of organisms that are consumer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944960" y="1752480"/>
            <a:ext cx="3216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 of energy pyrami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e picture in your book on page 557 is a good example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ere is another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19720" y="1371600"/>
            <a:ext cx="4168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17:02:32Z</dcterms:created>
  <dc:creator>Amy Duff</dc:creator>
  <dc:description/>
  <dc:language>en-US</dc:language>
  <cp:lastModifiedBy>Kim Collazo</cp:lastModifiedBy>
  <dcterms:modified xsi:type="dcterms:W3CDTF">2007-11-21T16:34:54Z</dcterms:modified>
  <cp:revision>4</cp:revision>
  <dc:subject/>
  <dc:title> ECOLOGY WORDS 29-30 </dc:title>
</cp:coreProperties>
</file>