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explode.wav" ContentType="audio/x-wav"/>
  <Override PartName="/ppt/media/image2.png" ContentType="image/png"/>
  <Override PartName="/ppt/media/glas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BC5-309B-4D91-AA18-E6E15BFF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A70-053D-45E6-A968-77119E8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0F4-43BE-4122-8FC7-9371AADD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8B9-A6D1-4E73-A08D-57B56372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923-03ED-46DC-A34E-E9CA46C4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D476-B2D1-4F1A-ABD2-9428DE4A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CE68-AD0E-458F-82EF-2077DEBE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B756-4A04-4321-9EBD-F6BFDA51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0C2A-7315-441D-8D6E-7645D145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E5DD-0CC9-4374-BECD-C82632A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596B-79D9-478B-B794-95A4198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6B6-31A0-4BBE-8AD5-F9504307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4EA4-169B-4D30-B8C7-4EA2D28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BC24-8C76-4979-BAEE-67C01086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558-7D72-47B8-9A96-620710C8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3707-AECD-41EC-885C-E9F77A1D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D8D6-0654-4A22-8E68-E30935F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0C4-1FDE-4C95-A9C4-C20B7F39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BCF-2F16-4504-9F69-CA8D6E82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918-FAAC-4DA9-AD43-C6B4102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0B4-1124-4D41-8037-EB168D60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076-1B6B-4A0D-B83F-7099444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90D-A737-4FB2-809C-04767B7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2CF-A480-4161-AAB5-9325F4F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2969-D5CD-45AE-AD75-B432665F053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BFE3-1C4F-4983-B2EB-9AF23D276C2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Lucida Handwriting"/>
              </a:rPr>
              <a:t>ECOLOGY WORDS 29-30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WE’RE ALMOST DONE!!!!!!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9.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FOOD WEB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nteraction and dependence of food chains on each oth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s confusing doesn’t it!?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’t worry, it will make sense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08360" y="914400"/>
            <a:ext cx="3773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URN IN YOUR BOOKS TO PAGE 555!!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llustration at the top is a food we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MANY FOOD CHAINS CAN YOU NAM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rt with the produc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llow the purple arrows until they no longer are leaving a pi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w many did you g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 pyramid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odel that demonstrates the numbers of organisms that are producers and the numbers of organisms that are consum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44960" y="1752480"/>
            <a:ext cx="32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of energy pyram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picture in your book on page 557 is a good examp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re is another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168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02:32Z</dcterms:created>
  <dc:creator>Amy Duff</dc:creator>
  <dc:description/>
  <dc:language>en-US</dc:language>
  <cp:lastModifiedBy>Kim Collazo</cp:lastModifiedBy>
  <dcterms:modified xsi:type="dcterms:W3CDTF">2007-11-21T16:34:54Z</dcterms:modified>
  <cp:revision>4</cp:revision>
  <dc:subject/>
  <dc:title> ECOLOGY WORDS 29-30 </dc:title>
</cp:coreProperties>
</file>