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chimes.wav" ContentType="audio/x-wav"/>
  <Override PartName="/ppt/media/explode.wav" ContentType="audio/x-wav"/>
  <Override PartName="/ppt/media/image2.png" ContentType="image/png"/>
  <Override PartName="/ppt/media/glass.wav" ContentType="audio/x-wav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BDC4-DCAC-491B-A0C4-92F65D005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F8DF-3686-4A61-AE52-D8B3AA51E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434B-6F1E-445C-8C7A-B7FAF9CA1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3B16-99B0-4B02-ADE2-218185008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5CB7D-D166-419E-86B9-F625855FD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292E2-A912-4E07-A9B8-51A91418F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E7336-C75A-4D2F-B803-B0717CFBF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B77A9-E648-495C-9D35-94210787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966DE-4E33-4F11-92C3-BC7B3C167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7B11D-A480-408C-AFF7-A69B85A3A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23141-25AE-40FE-B597-C15A1C05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E33F-BCEA-4010-81B5-1E6F26657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22306-8224-4A12-BD67-EBD00684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80726-4BA9-49C4-A325-2A42F0A4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B7489-7CF6-4C3E-AC66-DA7743DD5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9F638-1A09-45E8-BBCE-1201A595B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00A9F-316E-41BE-B850-2B6878163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C836-DEA7-4DCD-BD96-6AACF4E67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CB83-E97A-4240-9AD7-5D7278347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1F7E-1094-4CFE-ABBB-08C68878C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71A0-8B42-4728-A8E2-611740C51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8760-D5DA-4A96-98F7-5392059C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B4C6-5B0C-4098-A9FE-669D1313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8A77-2866-4929-A5F8-5279BC7C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0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12" name="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EEFD3-8CA9-44B3-BDDE-B53505362981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6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A2595-D5AD-4A96-866B-714804442889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audio" Target="../media/explode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glas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cc00"/>
                </a:solidFill>
                <a:latin typeface="Lucida Handwriting"/>
              </a:rPr>
              <a:t>ECOLOGY WORDS 29-30</a:t>
            </a:r>
            <a:br>
              <a:rPr sz="4000"/>
            </a:b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Lucida Handwriting"/>
              </a:rPr>
              <a:t>WE’RE ALMOST DONE!!!!!!!!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29. </a:t>
            </a:r>
            <a:r>
              <a:rPr b="0" lang="en-US" sz="3600" spc="-1" strike="noStrike" u="sng">
                <a:solidFill>
                  <a:srgbClr val="ffcc00"/>
                </a:solidFill>
                <a:uFillTx/>
                <a:latin typeface="Tahoma"/>
              </a:rPr>
              <a:t>FOOD WEB-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The interaction and dependence of food chains on each other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Looks confusing doesn’t it!?!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Don’t worry, it will make sense. 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608360" y="914400"/>
            <a:ext cx="37735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TURN IN YOUR BOOKS TO PAGE 555!!!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The illustration at the top is a food web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ahoma"/>
              </a:rPr>
              <a:t>HOW MANY FOOD CHAINS CAN YOU NAME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Start with the producer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Follow the purple arrows until they no longer are leaving a pictur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How many did you get?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647960" y="1752480"/>
            <a:ext cx="38098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30.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ahoma"/>
              </a:rPr>
              <a:t>Energy pyramid-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The model that demonstrates the numbers of organisms that are producers and the numbers of organisms that are consumers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944960" y="1752480"/>
            <a:ext cx="32162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xample of energy pyrami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3810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The picture in your book on page 557 is a good example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Here is another!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419720" y="1371600"/>
            <a:ext cx="416880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4T17:02:32Z</dcterms:created>
  <dc:creator>Amy Duff</dc:creator>
  <dc:description/>
  <dc:language>en-US</dc:language>
  <cp:lastModifiedBy>Kim Collazo</cp:lastModifiedBy>
  <dcterms:modified xsi:type="dcterms:W3CDTF">2007-11-21T16:34:54Z</dcterms:modified>
  <cp:revision>4</cp:revision>
  <dc:subject/>
  <dc:title> ECOLOGY WORDS 29-30 </dc:title>
</cp:coreProperties>
</file>