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FC6D-811B-4996-B47C-4251425F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4BEA-87A6-4D9B-8418-DE972A4F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C2B7-7C62-4BA5-9F0D-8987BA56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6C96-550D-4187-8074-4BF2B548A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CA2C3E-907E-44F3-9612-0496DB703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5A37D-8331-41FB-8A09-1DD73197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E62FB-EA96-421E-BBC7-42D17F93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8FA29B-56A8-4B44-A304-8AA6AC71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874EF-8166-45B4-AE4D-411BC3340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98D08D-96DC-4CE3-9B4C-8A6926A1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7A0AF2-4380-40DB-907E-DDA33124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A6FA-A6CD-40AF-8B7C-A1EA1004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EB24D3-D4D2-4CF0-8C16-7B66DEF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CF645B-4278-4279-894A-EC50773B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1A6BD-D53A-4A31-912D-5797C41D2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B6F73-1917-4BBA-8927-3D18A8A0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97A0B5-8680-4EFF-B310-F4C5333B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1554-83EA-48B3-9083-3A7E9C9B8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437E-24D3-454C-B826-D12F588A5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6A90-72F4-4A25-AA2F-C585C1D8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619-4658-4B96-B53B-BFF77228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42D5-F92A-4093-83E9-39BF049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4732-5A8C-4581-9C0D-4253409A3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F557-3AE5-43A7-A6C3-5307E3B4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492A-2C71-4AC2-BEB4-AA5130778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9FDB-E2B9-46E7-A002-B5C080447E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 Dictio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 this picture be considered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, there are many different types of flowers, not just one type of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on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e a list of at least 10 things in your ecosystem in a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639040" cy="48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190512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list needs to have at least five living (biotic) and five non-living things (abio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raw a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lu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ircle around the eco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raw A Red Circle Around The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aw a Black Circle Around the Popul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s of a whol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largest p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notice about the cir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all of us to have the same pictures for the first thre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oday you can be creative and be different than your classmates if you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all do the ocean ecosystem and use the list that we created in our circle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ctionary Directions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 is numbered, underlined, and def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clear illustration (picture) of the word dr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llustration must be neat and colored (no scrib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written explanation telling why your drawing is an example of the word.  Explanation must have the word “because”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y of how living things interact with each other and their enviro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cosystem-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unity of interacting organisms. (includes biotic and abiotic fac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50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4100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non-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 an example of how a living thing and non-living thing are interacting in this dia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ommunity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362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all the plants and animals that live in the sam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biotic factor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324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pulation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plants or animals of the same species that live together in an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6080" y="1523880"/>
            <a:ext cx="3700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picture shows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1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7926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541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T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difference between a population and a commun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ty is all the living things in a given area that interact with each other and a population is all the living things in an area that are the same speci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7432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429000" cy="223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ypes of populations live in our are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k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ne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'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3:07:50Z</dcterms:created>
  <dc:creator>West Lee Middle School</dc:creator>
  <dc:description/>
  <dc:language>en-US</dc:language>
  <cp:lastModifiedBy>Kim Collazo</cp:lastModifiedBy>
  <dcterms:modified xsi:type="dcterms:W3CDTF">2007-11-21T15:55:35Z</dcterms:modified>
  <cp:revision>9</cp:revision>
  <dc:subject/>
  <dc:title>Ecology Dictionary</dc:title>
</cp:coreProperties>
</file>