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chimes.wav" ContentType="audio/x-wav"/>
  <Override PartName="/ppt/media/image6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E913-4289-43E7-B75B-51D668B04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8414-BAED-4D80-9C95-FC1D303C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09D9-A6AA-4961-B3BB-8094559A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DEA0-177F-4053-A313-C4127F075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B2D98-0661-49D6-9E72-D60806794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8C51E-7686-48B4-9F8A-9CAAE20B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227B0-B6C6-43DF-912B-753EF450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66A7C-EED4-44FA-9638-639E8294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9181E-59A8-4BAF-8775-E0160873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34759-FB5F-4CC4-A24A-DFD2D9C1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EBA1E-C681-4479-AA96-673EA4DF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83AA-6F9E-4723-AC23-49F1F753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2B990-9E7C-4C71-80C8-45A207CC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0F286-8D31-402F-9EDE-B8646C18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34164-5B70-48FD-8C7D-BD7D34EF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5968F-E240-4245-BAE3-A2E992D31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BC197-AF90-4176-BEFF-D07A4090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3CAA-6033-4962-B22F-3DF4D8C3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75B5-48C9-4EE3-A921-1AF7DD19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54D0-DFF5-4115-A0BC-A8A42DC4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D6F8-4156-4E05-9B17-D93D84D3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07D0-2E81-44EC-926F-94CC3BC2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B9FE-A5C2-420B-B9DA-F6611671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3803-382E-4993-95FF-CA8739D5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6D59-3D26-4E6D-9421-1F24710CA8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0A77-BB42-457D-B2A1-71A94FF90D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cology Dictiona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an this picture be considered a populatio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7543800" cy="365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38080" y="56386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, there are many different types of flowers, not just one type of fl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ick one ecosyst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e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sh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infor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e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ke a list of at least 10 things in your ecosystem in a circ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5639040" cy="4861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553080" y="1905120"/>
            <a:ext cx="2133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r list needs to have at least five living (biotic) and five non-living things (abio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raw a 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blu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circle around the ecosyste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873080" y="1905120"/>
            <a:ext cx="539604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Draw A Red Circle Around The Commun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873080" y="1905120"/>
            <a:ext cx="5396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raw a Black Circle Around the Populati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873080" y="1905120"/>
            <a:ext cx="5396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rts of a whole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largest par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notice about the circl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ime to start your dictionary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ime to start your dictionary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want all of us to have the same pictures for the first three w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today you can be creative and be different than your classmates if you w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all do the ocean ecosystem and use the list that we created in our circle char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ctionary Directions Checkli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0020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cabulary word is numbered, underlined, and defin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must have a clear illustration (picture) of the word dra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llustration must be neat and colored (no scribbl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must have a written explanation telling why your drawing is an example of the word.  Explanation must have the word “because” in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colog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tudy of how living things interact with each other and their environmen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86200" y="1447920"/>
            <a:ext cx="4952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Ecosystem-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ommunity of interacting organisms. (includes biotic and abiotic facto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8458200" cy="3505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0880" y="5410080"/>
            <a:ext cx="7696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are the living things in this diagra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are the non-living things in this diagra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ive an example of how a living thing and non-living thing are interacting in this diagra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Community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362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group of all the plants and animals that live in the same ar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des biotic factors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632448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Population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group of plants or animals of the same species that live together in an ar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26080" y="1523880"/>
            <a:ext cx="37004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ich picture shows a populatio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4114800" cy="4038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800600" y="1371600"/>
            <a:ext cx="379260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43000" y="54100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CAN YOU TE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the difference between a population and a community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community is all the living things in a given area that interact with each other and a population is all the living things in an area that are the same species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2743200" cy="2290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066680" y="57150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u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429000" cy="2239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648320" y="55627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p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types of populations live in our area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ak Tre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ne Tre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quito'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13:07:50Z</dcterms:created>
  <dc:creator>West Lee Middle School</dc:creator>
  <dc:description/>
  <dc:language>en-US</dc:language>
  <cp:lastModifiedBy>Kim Collazo</cp:lastModifiedBy>
  <dcterms:modified xsi:type="dcterms:W3CDTF">2007-11-21T15:55:35Z</dcterms:modified>
  <cp:revision>9</cp:revision>
  <dc:subject/>
  <dc:title>Ecology Dictionary</dc:title>
</cp:coreProperties>
</file>