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0CE-875A-44B1-8808-F24A46F7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F6D-0191-4695-AC3A-3A87709B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05D-97A4-4061-80DE-D9C6A4F4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F6E-F9E2-4351-881E-A2010A5B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33980-BA45-4917-B123-F115D920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92B88-1CFF-47EF-950F-24693411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ACEB6-31E2-4BD1-A4EA-6788231D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C24FF-29F1-40CA-8F14-DE91F03E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74B6C-CC55-47FF-BE5D-8895E43D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61F92-33CE-4ED2-B391-52320CBA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7DC8F-1ADD-4573-9B1B-1E5B900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EBC-4D83-4561-B167-5CAC878B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E73A6-3289-4E7C-B50A-ECEFCD0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F2529-4C39-4832-B18F-4AE9B411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E6582-6335-4C97-BD66-7BF1D6F1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8AB06-BED4-4910-AF04-79C486B7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3915B-41AF-4912-B7A5-12E85350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F80-5B39-4741-8CB9-81B972CD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899-03F0-4D7D-A151-0CCB0171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868-1180-41EA-9568-9ABDE500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F15-7E67-4279-AC0B-EBFE97A8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A3A-7A89-4822-A4C2-C631B298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DE9-4869-4CBD-8011-1F1DAB33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0CA-BA40-4652-90B7-C6A89FB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2D76-319F-4792-A300-F6989588D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7E0B-16FD-4D2F-9EBD-F1D64E88C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 Dictio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n this picture be considered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563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, there are many different types of flowers, not just one type of f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one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ke a list of at least 10 things in your ecosystem in a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639040" cy="48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1905120"/>
            <a:ext cx="213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list needs to have at least five living (biotic) and five non-living things (abio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raw a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lu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ircle around the eco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raw A Red Circle Around The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raw a Black Circle Around the Popul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s of a whol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largest p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notice about the cir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nt all of us to have the same pictures for the first three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oday you can be creative and be different than your classmates if you w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all do the ocean ecosystem and use the list that we created in our circle cha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ctionary Directions Checkl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 is numbered, underlined, and defi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clear illustration (picture) of the word dra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llustration must be neat and colored (no scribb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written explanation telling why your drawing is an example of the word.  Explanation must have the word “because” 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y of how living things interact with each other and their enviro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Ecosystem-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unity of interacting organisms. (includes biotic and abiotic fac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505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541008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non-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ive an example of how a living thing and non-living thing are interacting in this diagr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ommunity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362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all the plants and animals that live in the same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s biotic factor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324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opulation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plants or animals of the same species that live together in an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6080" y="1523880"/>
            <a:ext cx="3700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picture shows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114800" cy="40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7926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3000" y="5410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YOU T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difference between a population and a commun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mmunity is all the living things in a given area that interact with each other and a population is all the living things in an area that are the same speci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743200" cy="229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66680" y="5715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429000" cy="2239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48320" y="5562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ypes of populations live in our are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ak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ne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quito'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3:07:50Z</dcterms:created>
  <dc:creator>West Lee Middle School</dc:creator>
  <dc:description/>
  <dc:language>en-US</dc:language>
  <cp:lastModifiedBy>Kim Collazo</cp:lastModifiedBy>
  <dcterms:modified xsi:type="dcterms:W3CDTF">2007-11-21T15:55:35Z</dcterms:modified>
  <cp:revision>9</cp:revision>
  <dc:subject/>
  <dc:title>Ecology Dictionary</dc:title>
</cp:coreProperties>
</file>