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5F10-E676-42B4-BB5A-8A65029A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244A-40B2-4D57-9E17-F5F7C765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979-9B18-4AE1-AAF7-56DDA000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0A78-0A2F-4730-8983-F836E64EE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3326A-6B4F-42A9-A739-3DF7F12A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326E7-1E5A-44F7-917E-EE86594BC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6DE6B-DDFE-4E05-ACB6-C554B68D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74DBC3-BF5E-4BE7-AA46-61E9D8B9A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DE5D6-12EB-4D62-B552-A18F8B80E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A1D4F-951F-4580-907B-BEA916238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D04EE0-B93F-4765-BF5E-227B4EA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B473-3FAF-4720-B2FD-21957E5A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8C3E9-278E-420C-9F30-C1138228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5652E-CB98-4314-97FB-188ED498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CB8AED-1B81-4669-B92A-5C24EFC28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F1681-12BC-45FC-971E-5FCCB5B42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C7823E-2622-4103-8ED1-5B042711B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6DB-08BB-4B95-BC3F-0EE2B3A45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2FDB-8545-43B1-8559-7C19F24E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3CC-B21A-4F56-A7DC-ABD42EEE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16E6-EB0F-4E2F-A964-D55C64A2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D710-AF07-46F9-BF99-D541E033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F244-4230-48AF-8E7F-144FF5FF1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BDF6-13D6-431D-8586-BFE7BA59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0757-12A5-49FE-BB1E-D8F936BAC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24984-A769-42FB-9156-3D96C5114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 Dictio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 this picture be considered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, there are many different types of flowers, not just one type of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on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e a list of at least 10 things in your ecosystem in a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639040" cy="48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190512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list needs to have at least five living (biotic) and five non-living things (abio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raw a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lu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ircle around the eco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raw A Red Circle Around The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aw a Black Circle Around the Popul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s of a whol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largest p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notice about the cir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all of us to have the same pictures for the first thre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oday you can be creative and be different than your classmates if you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all do the ocean ecosystem and use the list that we created in our circle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ctionary Directions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 is numbered, underlined, and def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clear illustration (picture) of the word dr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llustration must be neat and colored (no scrib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written explanation telling why your drawing is an example of the word.  Explanation must have the word “because”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y of how living things interact with each other and their enviro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cosystem-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unity of interacting organisms. (includes biotic and abiotic fac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50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4100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non-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 an example of how a living thing and non-living thing are interacting in this dia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ommunity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362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all the plants and animals that live in the sam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biotic factor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324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pulation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plants or animals of the same species that live together in an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6080" y="1523880"/>
            <a:ext cx="3700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picture shows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1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7926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541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T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difference between a population and a commun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ty is all the living things in a given area that interact with each other and a population is all the living things in an area that are the same speci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7432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429000" cy="223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ypes of populations live in our are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k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ne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'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3:07:50Z</dcterms:created>
  <dc:creator>West Lee Middle School</dc:creator>
  <dc:description/>
  <dc:language>en-US</dc:language>
  <cp:lastModifiedBy>Kim Collazo</cp:lastModifiedBy>
  <dcterms:modified xsi:type="dcterms:W3CDTF">2007-11-21T15:55:35Z</dcterms:modified>
  <cp:revision>9</cp:revision>
  <dc:subject/>
  <dc:title>Ecology Dictionary</dc:title>
</cp:coreProperties>
</file>