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chimes.wav" ContentType="audio/x-wav"/>
  <Override PartName="/ppt/media/image6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1EDE-A040-4E85-8761-83A4A1BE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A619-5B3E-4B2E-85A6-9072DABB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5EF-51F4-4CE6-8BB1-A67732F83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8019-8F03-4BFC-8371-5D76AEB5B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B3CD34-7A2D-4A7B-B74D-042F1A78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A37AE-7AEE-4599-9C4A-FF609DD9B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0CA73C-6BD1-490B-9A72-75E755A5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E02B75-64A2-4316-B083-7CE08A03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9A513-72F5-4300-B9D2-D5D83C5E6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545ED8-5B8B-4EBD-B1C7-3742449C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BF8AF-86B2-424F-BDC4-290FCE84E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16A-68CD-442F-A50E-E9F5959D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8E3B2B-B815-4E3E-9409-F1D3FEDE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6A20C-6F9B-4A55-860A-0D29FD73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B95185-D848-4932-B425-1EE3BC734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F4255-4FA3-43A5-B116-731733D8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5419E-59CE-4498-B3D0-404AB43B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603-2AE0-446F-80CC-5516142C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7D4D-3FE3-444F-8B1B-D02A9FBAA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0555-F2DF-4C5E-BE37-BF93400C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F3BC-445B-4417-A08C-5307371C0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94F5-520C-4F25-BCA7-8F4ED1C3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C42-00E7-4B82-AB68-5FBF041C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A98F-E6D0-47AD-9147-179320C0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F45D-993C-48E7-9179-A38651C680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28E4-70FD-4E02-B159-D5C448CC36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 Dictionar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an this picture be considered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90720" y="1676520"/>
            <a:ext cx="7543800" cy="365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838080" y="56386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, there are many different types of flowers, not just one type of fl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ick one ecosyste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ce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esh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in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se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ke a list of at least 10 things in your ecosystem in a cir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5639040" cy="48610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553080" y="1905120"/>
            <a:ext cx="213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r list needs to have at least five living (biotic) and five non-living things (abio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raw a </a:t>
            </a:r>
            <a:r>
              <a:rPr b="0" lang="en-US" sz="4000" spc="-1" strike="noStrike">
                <a:solidFill>
                  <a:srgbClr val="000099"/>
                </a:solidFill>
                <a:latin typeface="Tahoma"/>
              </a:rPr>
              <a:t>blue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ircle around the ecosyste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Draw A Red Circle Around The Commun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Draw a Black Circle Around the Population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873080" y="1905120"/>
            <a:ext cx="5396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s of a whole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is the largest par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do you notice about the circl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ime to start your dictionary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 want all of us to have the same pictures for the first three wo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oday you can be creative and be different than your classmates if you wis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will all do the ocean ecosystem and use the list that we created in our circle chart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ictionary Directions Checklis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1600200"/>
            <a:ext cx="8229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cabulary word is numbered, underlined, and defin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clear illustration (picture) of the word draw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illustration must be neat and colored (no scribble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ou must have a written explanation telling why your drawing is an example of the word.  Explanation must have the word “because” in 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colog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study of how living things interact with each other and their environmen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886200" y="1447920"/>
            <a:ext cx="495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Ecosystem-</a:t>
            </a:r>
            <a:br>
              <a:rPr sz="4400"/>
            </a:b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mmunity of interacting organisms. (includes biotic and abiotic factor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1752480"/>
            <a:ext cx="8458200" cy="3505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5410080"/>
            <a:ext cx="7696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hat are the non-living things in this diagra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ive an example of how a living thing and non-living thing are interacting in this diagra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Community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2362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all the plants and animals that live in the same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ludes biotic factors on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14600" y="1371600"/>
            <a:ext cx="632448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Tahoma"/>
              </a:rPr>
              <a:t>Population-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plants or animals of the same species that live together in an ar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726080" y="1523880"/>
            <a:ext cx="37004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picture shows a populatio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4114800" cy="40384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800600" y="1371600"/>
            <a:ext cx="379260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43000" y="541008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CAN YOU TEL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the difference between a population and a community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community is all the living things in a given area that interact with each other and a population is all the living things in an area that are the same species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743200" cy="22906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066680" y="57150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mmu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429000" cy="22399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648320" y="55627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pul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75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ypes of populations live in our area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ak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ine Tre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quito'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le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3:07:50Z</dcterms:created>
  <dc:creator>West Lee Middle School</dc:creator>
  <dc:description/>
  <dc:language>en-US</dc:language>
  <cp:lastModifiedBy>Kim Collazo</cp:lastModifiedBy>
  <dcterms:modified xsi:type="dcterms:W3CDTF">2007-11-21T15:55:35Z</dcterms:modified>
  <cp:revision>9</cp:revision>
  <dc:subject/>
  <dc:title>Ecology Dictionary</dc:title>
</cp:coreProperties>
</file>