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chimes.wav" ContentType="audio/x-wav"/>
  <Override PartName="/ppt/media/image6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EF57-41F9-41A9-806B-79EC0A354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4FA9-8C32-43D5-9C98-CBD75BD15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D74C-9B21-4F79-8358-1B0F6C318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01DF-1051-4A41-9024-96D69076F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79C442-5A1F-4ACE-B0F6-A7838CAE7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EB93C0-3751-463A-8E86-0DCFDC119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1546E2-1E27-4C44-BC44-4C81D04A7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DA7B22-AFC0-4244-B4DB-70CF76BE5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40FFCA-07AC-4104-8F9B-13EA8431D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EBE364-2F77-4ED8-BBDB-3D3A5C474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3CD812-49D3-436C-B8F3-E0D334555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0826-8592-44C0-8DF8-6D0991E46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E90CD1-BED1-4EA6-8C52-53F00192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CF2154-0A69-4BA8-8F27-026B860C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4D517F-1023-4AAF-BB02-9C011355E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74653C-7FB4-4C7F-ADED-B55044B01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96B655-BAFF-4824-9415-28A33BD07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65FB-2D0E-4704-8645-971380814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CAED-0BCA-456F-B7B6-32CB3C6BE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F765-606B-4439-9E80-2F56BBBAC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8AD9-82A8-463F-8D3C-12BD22824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3643-D218-45B5-845E-802313BCD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BB05-25F2-4D5C-A4C0-5C6125938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FD5C-DD9B-40D5-B011-80A4327A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EE456-96D0-492D-8C66-658E60B2EB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1EFED-C942-4857-83C8-44419361DD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cology Dictionar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an this picture be considered a populatio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990720" y="1676520"/>
            <a:ext cx="7543800" cy="3657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838080" y="56386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, there are many different types of flowers, not just one type of flow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ick one ecosyste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ce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eshwa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infore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se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e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ake a list of at least 10 things in your ecosystem in a circl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80880" y="1600200"/>
            <a:ext cx="5639040" cy="48610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553080" y="1905120"/>
            <a:ext cx="2133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r list needs to have at least five living (biotic) and five non-living things (abio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raw a </a:t>
            </a: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blue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circle around the ecosyste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873080" y="1905120"/>
            <a:ext cx="539604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Draw A Red Circle Around The Communit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873080" y="1905120"/>
            <a:ext cx="5396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Draw a Black Circle Around the Population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873080" y="1905120"/>
            <a:ext cx="5396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arts of a whole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the largest par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 you notice about the circle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ime to start your dictionary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ime to start your dictionary!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want all of us to have the same pictures for the first three wor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fter today you can be creative and be different than your classmates if you wis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will all do the ocean ecosystem and use the list that we created in our circle char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ictionary Directions Checklis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1600200"/>
            <a:ext cx="82296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ocabulary word is numbered, underlined, and defin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must have a clear illustration (picture) of the word draw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illustration must be neat and colored (no scribble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must have a written explanation telling why your drawing is an example of the word.  Explanation must have the word “because” in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colog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study of how living things interact with each other and their environmen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886200" y="1447920"/>
            <a:ext cx="49528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 algn="ctr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Ecosystem-</a:t>
            </a:r>
            <a:br>
              <a:rPr sz="44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community of interacting organisms. (includes biotic and abiotic factor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80880" y="1752480"/>
            <a:ext cx="8458200" cy="35053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80880" y="5410080"/>
            <a:ext cx="7696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hat are the living things in this diagram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hat are the non-living things in this diagram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ive an example of how a living thing and non-living thing are interacting in this diagra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Community-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362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group of all the plants and animals that live in the same are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ludes biotic factors on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514600" y="1371600"/>
            <a:ext cx="632448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3.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Population-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group of plants or animals of the same species that live together in an are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726080" y="1523880"/>
            <a:ext cx="37004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ich picture shows a populatio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28600" y="1447920"/>
            <a:ext cx="4114800" cy="40384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4800600" y="1371600"/>
            <a:ext cx="3792600" cy="41148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143000" y="541008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CAN YOU TEL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is the difference between a population and a community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01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community is all the living things in a given area that interact with each other and a population is all the living things in an area that are the same species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990720" y="3276720"/>
            <a:ext cx="2743200" cy="22906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066680" y="57150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mmu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429000" cy="22399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648320" y="55627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pul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75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75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types of populations live in our area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op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ak Tre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ine Tre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squito'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le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t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2T13:07:50Z</dcterms:created>
  <dc:creator>West Lee Middle School</dc:creator>
  <dc:description/>
  <dc:language>en-US</dc:language>
  <cp:lastModifiedBy>Kim Collazo</cp:lastModifiedBy>
  <dcterms:modified xsi:type="dcterms:W3CDTF">2007-11-21T15:55:35Z</dcterms:modified>
  <cp:revision>9</cp:revision>
  <dc:subject/>
  <dc:title>Ecology Dictionary</dc:title>
</cp:coreProperties>
</file>