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987-B24E-48B9-A311-B8371BDCD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A563-67A1-4437-B10A-A21EE5DFD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B67-4FB0-49B1-9F8F-DB5295874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3C3-5852-4A29-B3E0-815768CA1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F843-20F4-4F8E-8A94-AF0AFAF6B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C3568-3301-43F7-AFFE-3BBACE718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978D-C675-4721-BB79-D9B20D05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8424-ED0B-4B55-95E8-A51164E2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87D0-B387-401D-A967-7467FF05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E901-58EB-4074-818F-06CDCDFA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ABB76-AAE9-4802-95C8-28292F789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3F7-4062-410B-9640-F1B9B22AA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2D14-98E4-4E38-B5FC-9C5A85D6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8848-EFE4-474F-B621-0CDA94D2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3371-0C2E-4066-A337-8A8410F0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9ABB-9EB3-4B12-98E2-7B0025970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21AA-AB35-4EE0-99C0-9751461E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549E-849E-47C5-B4BF-B0226090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5B9-95CE-481F-A046-D40CE39A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0587-3980-4014-917C-453A945F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9F56-34A2-4661-BC84-A09097FB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D7C-18AC-4FC1-95C7-F9DB3369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B4CC-9D61-478E-A7E5-30AA1239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59E-A35C-4EEE-A3AB-E5C6FED9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6C8F-B3A1-4651-BA5B-1DD98C934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BBEC-B9D8-419C-9A5F-2131979DC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Words 4 and 5</a:t>
            </a:r>
            <a:br>
              <a:rPr sz="4400"/>
            </a:b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4.  Habitat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pecific place where an organism li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abitat of a whale is the oc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are some other animal’s habitat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930760" cy="44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5. Niche-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le an organism plays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quirrel’s niche is to gather nuts for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57680" y="22240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" descr="Red squirrel eating BBC"/>
          <p:cNvPicPr/>
          <p:nvPr/>
        </p:nvPicPr>
        <p:blipFill>
          <a:blip r:embed="rId1"/>
          <a:stretch/>
        </p:blipFill>
        <p:spPr>
          <a:xfrm>
            <a:off x="4876920" y="2666880"/>
            <a:ext cx="396216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habitats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eagle’s habitat is a nest high atop a tre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olar bear’s habitat is the arct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3200400" cy="21747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410080" y="3962520"/>
            <a:ext cx="238140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f1e"/>
            </a:gs>
            <a:gs pos="50000">
              <a:srgbClr val="003366"/>
            </a:gs>
            <a:gs pos="100000">
              <a:srgbClr val="000f1e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More examples of niche: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bear’s niche is to hibernate in the wi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nake’s niche is to hunt and eat rod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86400" y="1447920"/>
            <a:ext cx="2532240" cy="2666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181480" y="4419720"/>
            <a:ext cx="289584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8:33:04Z</dcterms:created>
  <dc:creator>Amy Duff</dc:creator>
  <dc:description/>
  <dc:language>en-US</dc:language>
  <cp:lastModifiedBy>Kim Collazo</cp:lastModifiedBy>
  <dcterms:modified xsi:type="dcterms:W3CDTF">2007-10-15T11:36:34Z</dcterms:modified>
  <cp:revision>5</cp:revision>
  <dc:subject/>
  <dc:title>Words 4 and 5   </dc:title>
</cp:coreProperties>
</file>