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792-CDD1-44DE-A5F0-ACF58B80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CAC-2121-4CDE-A0F9-A8DFE77C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3C7-C003-40E1-9FB9-7CC164F4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D37-49E5-4ACF-BC7E-988F79E9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0B49-B749-496C-B876-6AEDB97E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730D-C889-471C-8E84-F1E59D94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45FF-B6CE-42B4-A155-C0F7A40D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85DE-CBD1-40BE-A299-B32C8186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B273-A4D1-4AC5-B3D2-E1ABC432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6B0F-4B41-4F3A-8E8B-7630370C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9F1A-0A02-448A-A9DF-B0B0A766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875-C10E-4DA2-BC28-B4D6ACB0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094F-F82A-4404-9BA2-5E20B914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ED58-1A55-448C-88F2-13AFAF5E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7AE5-9049-4774-9802-D144D995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ABD0-DE17-4DD8-AE3C-8D99DDC0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675F-2D3E-4AE9-A8C2-85FF0545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D1F-FB5B-4DCB-9C34-F4E54110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38F-F341-457C-94DC-92C7133F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BD4-FB0A-47BE-9F79-13BA3BBD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5E6-3F88-45BF-A906-53810660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E42-87FD-42F3-A94E-670BAA45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97A-DD0B-4AF2-8924-0E222455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518-D9DD-4AAC-9163-67D8D89D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D183-E90B-40D4-8804-9E6CFA951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1A28-BD50-4093-A984-1A2AF4897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ords 4 and 5</a:t>
            </a:r>
            <a:br>
              <a:rPr sz="4400"/>
            </a:b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4.  Habitat-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ific place where an organism l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bitat of a whale is the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some other animal’s habita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93076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5. Niche-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le an organism plays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quirrel’s niche is to gather nuts for the w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57680" y="222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Red squirrel eating BBC"/>
          <p:cNvPicPr/>
          <p:nvPr/>
        </p:nvPicPr>
        <p:blipFill>
          <a:blip r:embed="rId1"/>
          <a:stretch/>
        </p:blipFill>
        <p:spPr>
          <a:xfrm>
            <a:off x="4876920" y="2666880"/>
            <a:ext cx="39621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re examples of habitats: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agle’s habitat is a nest high atop a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olar bear’s habitat is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217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2381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re examples of niche: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r’s niche is to hibernate in the w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nake’s niche is to hunt and eat ro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2532240" cy="2666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28958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33:04Z</dcterms:created>
  <dc:creator>Amy Duff</dc:creator>
  <dc:description/>
  <dc:language>en-US</dc:language>
  <cp:lastModifiedBy>Kim Collazo</cp:lastModifiedBy>
  <dcterms:modified xsi:type="dcterms:W3CDTF">2007-10-15T11:36:34Z</dcterms:modified>
  <cp:revision>5</cp:revision>
  <dc:subject/>
  <dc:title>Words 4 and 5   </dc:title>
</cp:coreProperties>
</file>