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3B47-D175-4417-AC5F-02619F33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510A-53AF-456B-9ED8-AC69F1B38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331D-1CBF-42EF-8A62-A08961063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2C76-9F83-44B3-8A35-5A2615384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A1DB-FF0B-456D-8E10-19BD0096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527E4-A6BC-499F-BDB2-1947448A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2156A-A7A6-4E4E-8C31-393B53D7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E40F-A141-446B-AFC3-EB50E2625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B8EFC-DE51-423A-8ABD-D3737B12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76615-C14B-4C1B-8C7F-00EB9E1E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C136-D6A3-4408-8526-49D6EEA0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81B-C1FE-4F4F-8BDF-E08FF9C4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BAE4-F75C-4AE1-9B24-2850EBB0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FE21-1B93-4B2B-9312-D710515F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AF41A-73C7-4BB7-AB9A-1853A37F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C7E3-2F87-424A-8869-BF71CDCA8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B7B4-DF62-4E3D-A1D6-B021CF215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2E21-CC18-4283-8D11-5AFCBF39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14C-C331-4E7C-BF42-5ECA4A60C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BA8-1DCA-4557-909C-3C742AD11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F93-1DB9-4E28-91A9-4A78C9B8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8783-1245-4E86-943A-FBBAE508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127C-AD93-4139-BF60-584C8F0A1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2DBE-8352-4B04-A984-127E1B18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95E5-1063-4673-99C0-54847B7041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C0F9-9243-4C37-B773-76FD1E3A00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ords 4 and 5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4.  Habitat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ific place where an organism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bitat of a whale is the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some other animal’s habita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3076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5. Niche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an organism play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quirrel’s niche is to gather nuts for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57680" y="222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Red squirrel eating BBC"/>
          <p:cNvPicPr/>
          <p:nvPr/>
        </p:nvPicPr>
        <p:blipFill>
          <a:blip r:embed="rId1"/>
          <a:stretch/>
        </p:blipFill>
        <p:spPr>
          <a:xfrm>
            <a:off x="4876920" y="2666880"/>
            <a:ext cx="3962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habitats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agle’s habitat is a nest high atop a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olar bear’s habitat is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217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381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niche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r’s niche is to hibernate in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nake’s niche is to hunt and eat ro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53224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8958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33:04Z</dcterms:created>
  <dc:creator>Amy Duff</dc:creator>
  <dc:description/>
  <dc:language>en-US</dc:language>
  <cp:lastModifiedBy>Kim Collazo</cp:lastModifiedBy>
  <dcterms:modified xsi:type="dcterms:W3CDTF">2007-10-15T11:36:34Z</dcterms:modified>
  <cp:revision>5</cp:revision>
  <dc:subject/>
  <dc:title>Words 4 and 5   </dc:title>
</cp:coreProperties>
</file>