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92A-85DD-44B4-850C-E1A0CCC3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039-5243-4FE7-A0AF-A6AC04AE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49D-B179-4471-BAAA-1700CA74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BB5-53E6-404B-A617-7C72405F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FE35-B4D0-4038-BF13-A8E40992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ED76-D482-42F8-90DB-2EEC58D1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EEC3-47CF-47E7-9024-5A42637E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68DA-960D-4837-B3F6-7C0D3B04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37B5-0597-4960-9F26-BDD58334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23CE-990E-402F-99C4-503A48D5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817F-EF11-426B-B727-EEF4071E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8D7-F19A-4D31-9E50-41DB9D6C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8988-D414-449B-99CB-B412031E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EB4B-7240-4C84-84D1-07763202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AD54-3C72-41A6-BA30-EA0E8BDA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1F2-08A8-44CE-8765-44C54101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52EE-9029-4A64-BC8A-8D6CB833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A30-46A5-412D-8D8D-C92D5CC1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6F4-AEB1-4BC8-98DF-7E570A70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115-EF8E-4C54-8054-D7B05002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35F-EF20-4AF7-8343-9A82AC29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EA8-C5AA-48ED-A513-80CABBDA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7A5-F752-4F0B-A1AF-CFE080AD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DFF-4F33-4DA2-9DAA-0AFD8D51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2C18-35DD-49B2-BBFC-90D8F60A3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0F82-9ED3-4D75-816F-B86E6FF96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ords 4 and 5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4.  Habitat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ific place where an organism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bitat of a whale is the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some other animal’s habita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3076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5. Niche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an organism play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quirrel’s niche is to gather nuts for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57680" y="222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Red squirrel eating BBC"/>
          <p:cNvPicPr/>
          <p:nvPr/>
        </p:nvPicPr>
        <p:blipFill>
          <a:blip r:embed="rId1"/>
          <a:stretch/>
        </p:blipFill>
        <p:spPr>
          <a:xfrm>
            <a:off x="4876920" y="2666880"/>
            <a:ext cx="3962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habitats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agle’s habitat is a nest high atop a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olar bear’s habitat is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217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381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niche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r’s niche is to hibernate in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nake’s niche is to hunt and eat ro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53224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8958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33:04Z</dcterms:created>
  <dc:creator>Amy Duff</dc:creator>
  <dc:description/>
  <dc:language>en-US</dc:language>
  <cp:lastModifiedBy>Kim Collazo</cp:lastModifiedBy>
  <dcterms:modified xsi:type="dcterms:W3CDTF">2007-10-15T11:36:34Z</dcterms:modified>
  <cp:revision>5</cp:revision>
  <dc:subject/>
  <dc:title>Words 4 and 5   </dc:title>
</cp:coreProperties>
</file>