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CBA3-4799-4E27-927B-9DE51F5EF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F4BE-6D34-4D13-A3B3-3CB28F4C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63C9-9C9A-4349-8A15-2C70C71E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F4CD-64EB-41F2-9183-7A896BA6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AADD-4255-442F-8F69-E1A3E6C3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9EDA-94CD-4C34-BC1E-131F4CD7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EF17-D419-406E-A8A6-DAE10A22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86D6-57BE-4D25-9654-45AFAA0D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5097-9ABB-43D4-8C77-B024AA16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37B9-0D81-45A0-8863-F57AAE05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87EA-B18E-4D79-97CE-DC1C763D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91AD-F53B-428A-8B53-BB00610E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7903-F2AC-48AF-AB47-A858F9B3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10EA0-555A-4055-87EC-A25F92274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6246-00A0-4BBC-9F6B-9D35F46D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8F96-18B8-4561-9E92-3F791EDD9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9F68E-7E55-4D61-A9A1-85F04814D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A19A-6285-426C-8152-F6A5A2CA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CA4-EF87-4B09-A0E7-E2117252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FD4-EA8A-4638-A594-12F72D143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103B-DE83-43CD-AE98-5B24A1E4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A0A5-E65F-4BC9-9D5D-52C85FEBA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D56-6A93-4988-BCCE-4ABDF436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456-1C1D-4700-82BD-9689F17B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0B42-2666-4ADA-B1EA-A4CA2B87CE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D6A79-DD63-4462-AC0D-279E47BF27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ords 4 and 5</a:t>
            </a:r>
            <a:br>
              <a:rPr sz="4400"/>
            </a:b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4.  Habitat-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ific place where an organism l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bitat of a whale is the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some other animal’s habita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93076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5. Niche-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le an organism plays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quirrel’s niche is to gather nuts for the w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57680" y="222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Red squirrel eating BBC"/>
          <p:cNvPicPr/>
          <p:nvPr/>
        </p:nvPicPr>
        <p:blipFill>
          <a:blip r:embed="rId1"/>
          <a:stretch/>
        </p:blipFill>
        <p:spPr>
          <a:xfrm>
            <a:off x="4876920" y="2666880"/>
            <a:ext cx="39621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re examples of habitats: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agle’s habitat is a nest high atop a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olar bear’s habitat is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217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2381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re examples of niche: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r’s niche is to hibernate in the w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nake’s niche is to hunt and eat ro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2532240" cy="2666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28958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33:04Z</dcterms:created>
  <dc:creator>Amy Duff</dc:creator>
  <dc:description/>
  <dc:language>en-US</dc:language>
  <cp:lastModifiedBy>Kim Collazo</cp:lastModifiedBy>
  <dcterms:modified xsi:type="dcterms:W3CDTF">2007-10-15T11:36:34Z</dcterms:modified>
  <cp:revision>5</cp:revision>
  <dc:subject/>
  <dc:title>Words 4 and 5   </dc:title>
</cp:coreProperties>
</file>