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73B-EEA2-48EB-B31C-0EBB6CFD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8F9-995D-48C6-AD31-44533079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209-273D-4DAB-9786-4C8C4D86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91A-A34A-4E51-A7BD-91AAB836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1AAE-939B-4A6A-88B6-36F6AC93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19AA-CB82-417A-A439-8C281ADF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B962-93F3-4183-8C14-925A1B4B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5769-AA60-4132-838F-589E77A4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83F7-1E0B-488E-BDD7-A65512B2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17C9-59AA-46F3-9B92-F7F3E9C8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7521-0472-4C25-8988-7C8A0B64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015-AB7C-423A-B23F-DC9C8F2A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695E-B1C0-47BD-AC1A-503D910F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97EC-82EC-43E9-8960-33A33C42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39F0-1568-4D9D-96FF-5BE1E0AC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87DC-FCA3-48F2-8D5A-323F1F62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0104-E8A7-4523-B644-C4136E2E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E00B-D7E4-4494-BE5A-5E83EA73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02F-B34B-40CB-8D39-21F54BA5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7E78-6D35-4485-8868-F97685A2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5C8-15F6-4B12-A112-D239F6EA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3C7E-A13E-4A3D-A7C0-6A2FCFE1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32D-A603-4DFD-AEEF-DC05C4F3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D5FA-0FDD-43EF-BAF7-A36FAECA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B4B5-D4B6-4928-8679-1D25BB1495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A8E7-B596-45A8-8FC2-0190FC929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Words 4 and 5</a:t>
            </a:r>
            <a:br>
              <a:rPr sz="4400"/>
            </a:b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4.  Habitat-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pecific place where an organism l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abitat of a whale is the oc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some other animal’s habita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93076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5. Niche-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ole an organism plays in th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quirrel’s niche is to gather nuts for the wi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57680" y="222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Red squirrel eating BBC"/>
          <p:cNvPicPr/>
          <p:nvPr/>
        </p:nvPicPr>
        <p:blipFill>
          <a:blip r:embed="rId1"/>
          <a:stretch/>
        </p:blipFill>
        <p:spPr>
          <a:xfrm>
            <a:off x="4876920" y="2666880"/>
            <a:ext cx="39621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More examples of habitats: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agle’s habitat is a nest high atop a 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olar bear’s habitat is the 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00400" cy="2174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10080" y="3962520"/>
            <a:ext cx="23814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More examples of niche: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r’s niche is to hibernate in the wi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nake’s niche is to hunt and eat rod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2532240" cy="2666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81480" y="4419720"/>
            <a:ext cx="28958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33:04Z</dcterms:created>
  <dc:creator>Amy Duff</dc:creator>
  <dc:description/>
  <dc:language>en-US</dc:language>
  <cp:lastModifiedBy>Kim Collazo</cp:lastModifiedBy>
  <dcterms:modified xsi:type="dcterms:W3CDTF">2007-10-15T11:36:34Z</dcterms:modified>
  <cp:revision>5</cp:revision>
  <dc:subject/>
  <dc:title>Words 4 and 5   </dc:title>
</cp:coreProperties>
</file>