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.wmf" ContentType="image/x-wmf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AE13-326B-4ED9-8492-0DFA9371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D4B3-4D4B-45ED-82C3-E073D915D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890B-C208-402A-B253-024AE0402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E735-C169-4BF6-9772-0EF0DA6E8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58A5-83FB-41A1-BDF0-F11D803C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929D6-FCCA-47AB-BA56-11A5B0566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82FD8-9957-4DF0-9C7B-5C933522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9AC7-EB32-4330-86AA-CA1DAC216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36712-BCBB-48C1-BA7F-BC9901AF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A3D3D-C98B-432E-8C92-16A93A02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19A5D-6549-4C6F-86DF-8A1173AD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EBDC-6D91-4F53-A298-E73DADDF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2405-0926-4582-8086-E6D04B9BD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B701-7837-48EE-BB71-DA990417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82DE8-6EC7-49A2-B1CE-F36A2448A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DAEC3-FFE7-4C81-82D2-3136B2538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658FE-B21F-44E8-9056-5157FC40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E1D4-A493-4339-93F3-2C95F82C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34C1-CEA0-4532-9109-85E69391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3D7B-C073-4FE1-9DEF-3F917AE6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C93-E610-4E1E-A360-1DCF87DF7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2843-B3C6-44F7-983C-809D4733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9892-19F8-4FB8-8662-AE374B66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FDE3-CCF1-4F0D-91BA-89F569D5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0BF4-E9A1-4609-8D61-864B348E43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595F-DD19-4941-8EE3-94CC9FB168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en.wikipedia.org/wiki/Image:Lice_image01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	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SYMBIOTIC RELATIONSHIPS </a:t>
            </a:r>
            <a:br>
              <a:rPr sz="5400"/>
            </a:b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WORDS 10-15</a:t>
            </a: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	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4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PARASITE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 organism that lives off the energy of other living th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“bad guy” in parasi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lea is a para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653000" y="1763640"/>
            <a:ext cx="403380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RE EXAMPLES OF A PARASITE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oundworm is a parasite in the example of a cat and a roundw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ce is the parasite in the human and lice example of parasi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5334120" y="1371600"/>
            <a:ext cx="3809880" cy="28098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Sheep lice have translucent bodies and a proportionally large head and abdomen.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4343400"/>
            <a:ext cx="28958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5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HOST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rganism that a parasite lives in or gets nourishment fr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“good guy” in the examples of parasi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S OF HOSTS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human in the human and lice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cat in the cat and roundworm exam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6095880" y="1447920"/>
            <a:ext cx="2529000" cy="32353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3733920" y="4267080"/>
            <a:ext cx="226368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Ring worm on a human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257800" cy="40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apeworm In a rabbi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5715000" cy="43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apeworm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541008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eart worm in a dog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562360" cy="39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ommon NC Deer tick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715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on’t let the bed bugs bite!!!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752480" y="2362320"/>
            <a:ext cx="60199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0. 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Symbiosis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lationship in which two species exist together and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t least one of the species benefits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from the inte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three types of symbiotic relationships:  mutualism, commensalism and parasiti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TREE MAP OF SYMBIOTIC RELATIONSHIPS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2590920"/>
          <a:ext cx="914400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90920"/>
                    <a:ext cx="914400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1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MUTUALISM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lationship between organisms in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both species benefit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from the 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in animals of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different spec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words: both bene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52640" y="1599840"/>
            <a:ext cx="4033800" cy="45306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76920" y="1905120"/>
            <a:ext cx="42670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 OF MUTUALISM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ea anemone and a clown fis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sea anemone benefits because the clown fish attracts other fish and the clown fish benefits because it gets prote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302000" y="1889280"/>
            <a:ext cx="4384800" cy="39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2. 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COMMENSALISM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relationship between organisms in which one species benefits and the other species neither benefits nor is harmed by the inter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y words:  one benefits, one unaffec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EXAMPLE OF COMMENSALISM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160" y="2590920"/>
            <a:ext cx="40338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hark and a remor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remora benefits because it gets pieces of leftover food and the shark is unaffec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800600" y="2027160"/>
            <a:ext cx="414180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13. </a:t>
            </a:r>
            <a:r>
              <a:rPr b="1" lang="en-US" sz="4400" spc="-1" strike="noStrike" u="sng">
                <a:solidFill>
                  <a:srgbClr val="feec94"/>
                </a:solidFill>
                <a:uFillTx/>
                <a:latin typeface="Times New Roman"/>
              </a:rPr>
              <a:t>PARASITISM-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133720"/>
            <a:ext cx="403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relationship between organisms in which one species benefits and the other is harmed by the inter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ey words: one benefits, one is ha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98952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MORE EXAMPLES OF PARASITISM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human with l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ice benefits because it gets food and a place to live on the human. The human is ha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at and roundworm is another example.  Who benefits? Who’s harm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985000" y="1143000"/>
            <a:ext cx="3159000" cy="32004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486400" y="4443480"/>
            <a:ext cx="36576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7T18:02:26Z</dcterms:created>
  <dc:creator>Amy Duff</dc:creator>
  <dc:description/>
  <dc:language>en-US</dc:language>
  <cp:lastModifiedBy>Kim Collazo</cp:lastModifiedBy>
  <dcterms:modified xsi:type="dcterms:W3CDTF">2007-10-22T14:12:55Z</dcterms:modified>
  <cp:revision>5</cp:revision>
  <dc:subject/>
  <dc:title> SYMBIOTIC RELATIONSHIPS  WORDS 10-15 </dc:title>
</cp:coreProperties>
</file>