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A2F-EA06-4E4A-A415-1D4F899E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299-FC12-4BC9-8A7E-83B3C07E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0A6-C329-4FDB-BB54-57F0AF6A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6B1-8658-4B59-A274-49FE4DA1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28A2-1C40-485F-A686-70BA4963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32C0-2C58-4B57-A114-46C5347D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5559-CA6A-4B39-ABA3-6AD08FB3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34DF-5424-485A-ABDE-D3848084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85C6-BDFD-4694-AEB2-7EDB88BE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CA2A-AF7A-4705-8EA7-C013A2F3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8CA4-2EF4-4F95-9719-D4344FBA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688-ADB1-47D5-A988-DE1431B6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1BA5-A26A-42CC-B6C6-93BE9A6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8AA4-3776-4848-ACA4-17B4ED60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04B9-AE66-4B4C-BA5C-A92292CD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9A15-91EC-4679-AC15-BB4BD1BD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75A9-168B-40C7-89BD-C1CDF3E4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9FA-0A4D-4251-95FF-C6F4C26F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753-06EE-4056-8AF5-1B35C371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B3C-7055-499E-BADA-C269794E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F51-0A38-40CA-852B-F733ACAC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696-166F-410A-ACA8-C8271BC3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311-74F9-43B0-A9FA-72A24E62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EE4-EE03-4209-8FE4-25B5D20E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D9AD-CE12-4913-8F8F-7F54C1A04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D2B0-F9C6-4B6F-97D5-E867F9C00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en.wikipedia.org/wiki/Image:Lice_image01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YMBIOTIC RELATIONSHIPS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ORDS 10-15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4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ARASITE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rganism that lives off the energy of other liv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bad guy” in parasi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ea is a para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53000" y="1763640"/>
            <a:ext cx="40338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EXAMPLES OF A PARASIT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undworm is a parasite in the example of a cat and a roundw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 is the parasite in the human and lice example of parasi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809880" cy="2809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Sheep lice have translucent bodies and a proportionally large head and abdomen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343400"/>
            <a:ext cx="2895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5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HOST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 that a parasite lives in or gets nourishment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good guy” in the examples of paras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S OF HOST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uman in the human and lice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t in the cat and roundworm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529000" cy="3235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733920" y="4267080"/>
            <a:ext cx="22636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ing worm on a hum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2578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peworm In a rabbi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715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pewor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eart worm in a do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5623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mmon NC Deer tic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15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n’t let the bed bugs bite!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60199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0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Symbiosis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lationship in which two species exist together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t least one of the species benefi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the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hree types of symbiotic relationships:  mutualism, commensalism and paras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MAP OF SYMBIOTIC RELATIONSHIP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590920"/>
          <a:ext cx="9144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1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MUTUAL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between organisms in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th species benef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th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in animal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ferent 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words: both bene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52640" y="159984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267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 OF MUTUAL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a anemone and a clown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 anemone benefits because the clown fish attracts other fish and the clown fish benefits because it gets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02000" y="1889280"/>
            <a:ext cx="438480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2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COMMENSAL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lationship between organisms in which one species benefits and the other species neither benefits nor is harmed by the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words:  one benefits, one unaff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 OF COMMENSAL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403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ark and a rem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mora benefits because it gets pieces of leftover food and the shark is unaff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00600" y="2027160"/>
            <a:ext cx="4141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3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ARASIT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03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between organisms in which one species benefits and the other is harmed by th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words: one benefits, one is ha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989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EXAMPLES OF PARASIT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uman with l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ice benefits because it gets food and a place to live on the human. The human is ha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t and roundworm is another example.  Who benefits? Who’s harm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85000" y="1143000"/>
            <a:ext cx="315900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86400" y="444348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2:26Z</dcterms:created>
  <dc:creator>Amy Duff</dc:creator>
  <dc:description/>
  <dc:language>en-US</dc:language>
  <cp:lastModifiedBy>Kim Collazo</cp:lastModifiedBy>
  <dcterms:modified xsi:type="dcterms:W3CDTF">2007-10-22T14:12:55Z</dcterms:modified>
  <cp:revision>5</cp:revision>
  <dc:subject/>
  <dc:title> SYMBIOTIC RELATIONSHIPS  WORDS 10-15 </dc:title>
</cp:coreProperties>
</file>