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cashreg.wav" ContentType="audio/x-wav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whoosh.wav" ContentType="audio/x-wav"/>
  <Override PartName="/ppt/media/image10.jpeg" ContentType="image/jpeg"/>
  <Override PartName="/ppt/media/image7.jpeg" ContentType="image/jpeg"/>
  <Override PartName="/ppt/media/camera.wav" ContentType="audio/x-wav"/>
  <Override PartName="/ppt/media/explode.wav" ContentType="audio/x-wav"/>
  <Override PartName="/ppt/media/image1.jpeg" ContentType="image/jpeg"/>
  <Override PartName="/ppt/media/image4.jpeg" ContentType="image/jpeg"/>
  <Override PartName="/ppt/media/image2.jpeg" ContentType="image/jpeg"/>
  <Override PartName="/ppt/media/ricochet.wav" ContentType="audio/x-wav"/>
  <Override PartName="/ppt/media/clap.wav" ContentType="audio/x-wav"/>
  <Override PartName="/ppt/media/chimes.wav" ContentType="audio/x-wav"/>
  <Override PartName="/ppt/media/glas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drumroll.wav" ContentType="audio/x-wav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42C-5752-40AA-A542-9F55183A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ECD-975A-4BFE-B90E-960A6EDC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B05-0B4E-4BAB-9836-4ABBA77D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8B0-928A-4D3E-9895-37804A80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DD22-CCFB-4708-A88C-8A1EEB0F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6E72-6027-4C97-9A3D-9CD56E9A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33D7-27DD-4064-AA77-5CB653CB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D122-0641-4A43-BD0E-AE463E7B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C379-5CB0-47AB-B3DC-ABA3CD4F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45D5-26D0-4EBD-A45E-A80249F8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15BD-5E50-46D7-85DC-C24846D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2B4-B7BF-4C41-8290-E51EAD2E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4A8F-BDFC-4BAC-B9B0-26D6ABB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1F45-D440-49AA-9A8D-F41D2000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2008-7598-4D27-91D3-F32D87EC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35CF-9BF3-4542-8584-B89BFA17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906D-BB4C-4384-8C83-BBCFA155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C4F-4D9B-4441-A386-2D16C6AE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C15-1BD6-4054-BCCA-147C23EA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827-7491-4322-A3C0-39095D8D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C0D-98AE-4E5F-80C0-3570788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0D4-B358-4009-99C5-60F06F38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A5A-7AA0-48FB-9D39-37EE1CEB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BE5-116A-4019-8BA5-2693884A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CB56-F104-4258-BE25-32D86438C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725B-FA83-4CE3-B9D0-CFB417C94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oplin.lib.oh.us/products/tree/fact%2520pages/maple_red/tree.jpg&amp;imgrefurl=http://www.oplin.lib.oh.us/products/tree/fact%2520pages/maple_red/maple_red.html&amp;h=218&amp;w=190&amp;sz=31&amp;tbnid=szduoEATK7kJ:&amp;tbnh=100&amp;tbnw=88&amp;prev=/images%3Fq%3Dmaple%2Btree%26hl%3Den%26lr%3D%26ie%3DUTF-8%26oe%3DUTF-8%26sa%3DN" TargetMode="External"/><Relationship Id="rId2" Type="http://schemas.openxmlformats.org/officeDocument/2006/relationships/hyperlink" Target="http://images.google.com/imgres?imgurl=http://www.hurst-water-meadow.co.uk/images/oak_tree.jpg&amp;imgrefurl=http://www.hurst-water-meadow.co.uk/maps/main_map.htm&amp;h=378&amp;w=346&amp;sz=28&amp;tbnid=mLvf1DqeYVMJ:&amp;tbnh=117&amp;tbnw=108&amp;start=8&amp;prev=/images%3Fq%3Doak%2Btree%26hl%3Den%26lr%3D%26ie%3DUTF-8%26sa%3DG" TargetMode="External"/><Relationship Id="rId3" Type="http://schemas.openxmlformats.org/officeDocument/2006/relationships/image" Target="../media/image1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COLOGY WORDS 16-2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x is a consumer.  Can you name what kind of consumer it 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a do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consumer is a de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RE YOU RIGHT??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fox is an omnivore!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dog is true carnivore, however since dogs have been domesticated sometimes they are classified as an omn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nd a deer of course is an herb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are decomposers  so important to our ecosystem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et rid of rotting corpses (bodies)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so put back needed nutrients into the soil so new producers can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is why they are called the recyclers of na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32160" y="1946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6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PRODUC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sms that contribute to the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oducers perform photosynthesis and can make their ow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ll gre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30720" y="1600200"/>
            <a:ext cx="401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7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ONSUM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eats or consumes food to obta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ls are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 types of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1957320" cy="1447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934320" y="34290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8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HERB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plant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herb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32520" y="2225520"/>
            <a:ext cx="38098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9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AR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other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carn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24280" y="2268360"/>
            <a:ext cx="42181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0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M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nsumers that eat both plants and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Humans are omnivore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325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YP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80880" y="1981080"/>
          <a:ext cx="87631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763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1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DECOMPOS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n organism that changes dead organisms into chemicals that can be used ag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Often called the “recyclers” of natu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12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PRODUC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tuli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Grass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Even a venus fly tra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7:22:02Z</dcterms:created>
  <dc:creator>Amy Duff</dc:creator>
  <dc:description/>
  <dc:language>en-US</dc:language>
  <cp:lastModifiedBy>Kim Collazo</cp:lastModifiedBy>
  <dcterms:modified xsi:type="dcterms:W3CDTF">2007-11-21T16:16:26Z</dcterms:modified>
  <cp:revision>13</cp:revision>
  <dc:subject/>
  <dc:title>CH. 18 ECOLOGY LIST B</dc:title>
</cp:coreProperties>
</file>