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wmf" ContentType="image/x-wmf"/>
  <Override PartName="/ppt/media/cashreg.wav" ContentType="audio/x-wav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whoosh.wav" ContentType="audio/x-wav"/>
  <Override PartName="/ppt/media/image10.jpeg" ContentType="image/jpeg"/>
  <Override PartName="/ppt/media/image7.jpeg" ContentType="image/jpeg"/>
  <Override PartName="/ppt/media/camera.wav" ContentType="audio/x-wav"/>
  <Override PartName="/ppt/media/explode.wav" ContentType="audio/x-wav"/>
  <Override PartName="/ppt/media/image1.jpeg" ContentType="image/jpeg"/>
  <Override PartName="/ppt/media/image4.jpeg" ContentType="image/jpeg"/>
  <Override PartName="/ppt/media/image2.jpeg" ContentType="image/jpeg"/>
  <Override PartName="/ppt/media/ricochet.wav" ContentType="audio/x-wav"/>
  <Override PartName="/ppt/media/clap.wav" ContentType="audio/x-wav"/>
  <Override PartName="/ppt/media/chimes.wav" ContentType="audio/x-wav"/>
  <Override PartName="/ppt/media/glass.wav" ContentType="audio/x-wav"/>
  <Override PartName="/ppt/media/image6.jpeg" ContentType="image/jpeg"/>
  <Override PartName="/ppt/media/applause.wav" ContentType="audio/x-wav"/>
  <Override PartName="/ppt/media/image5.jpeg" ContentType="image/jpeg"/>
  <Override PartName="/ppt/media/drumroll.wav" ContentType="audio/x-wav"/>
  <Override PartName="/ppt/media/image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5D51-1331-4FD3-95A8-8757368D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36E-27B5-4A78-8173-16D9C8B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427E-5B61-471A-9B1B-1D05EDFC0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1BA-CB4E-4151-9169-ACAA73E8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A524-11A8-4EF3-A68D-8A9406FC0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F252-FB37-43C7-BEF2-CA0D1E26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5765-531E-4D0B-ACAD-00A2F37D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2DCDC-1576-4256-BD0D-3AD40CC4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B593-F06B-4501-BF88-86A3DB1E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F0F8-E908-4ECF-8CB0-B01C99AA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45A73-9E03-48DD-AE49-CE4103DC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9766-409C-4DD6-AB8F-1CFA1F1F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0B453-8AB2-4BC7-9634-75C511AE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E6F5D-D097-4855-91E9-4FF82842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49CB-BB28-424E-9E18-E72B3534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0DA2-DC23-49D4-96CC-51486719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1FEF9-8C9B-4977-89BF-781A00CB8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2A1-02D3-43A2-84AF-2E630E46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626-494D-4B1A-BF79-FF5CAEA28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D57C-484B-4635-9698-1E9EFEEAE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A1C3-E79F-40CD-8C6A-687A2C21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D4A0-3629-431E-B422-DE5B4CA0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453C-9FC6-42EB-A6C7-1371A368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058C-0596-4C81-B976-392A397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C61-6A30-41DA-B7CF-25BEA6FAAA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73F-85E8-4D0D-8224-5A218F63C8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pplause.wav"/><Relationship Id="rId3" Type="http://schemas.openxmlformats.org/officeDocument/2006/relationships/audio" Target="../media/camera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explode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glass.wav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oplin.lib.oh.us/products/tree/fact%2520pages/maple_red/tree.jpg&amp;imgrefurl=http://www.oplin.lib.oh.us/products/tree/fact%2520pages/maple_red/maple_red.html&amp;h=218&amp;w=190&amp;sz=31&amp;tbnid=szduoEATK7kJ:&amp;tbnh=100&amp;tbnw=88&amp;prev=/images%3Fq%3Dmaple%2Btree%26hl%3Den%26lr%3D%26ie%3DUTF-8%26oe%3DUTF-8%26sa%3DN" TargetMode="External"/><Relationship Id="rId2" Type="http://schemas.openxmlformats.org/officeDocument/2006/relationships/hyperlink" Target="http://images.google.com/imgres?imgurl=http://www.hurst-water-meadow.co.uk/images/oak_tree.jpg&amp;imgrefurl=http://www.hurst-water-meadow.co.uk/maps/main_map.htm&amp;h=378&amp;w=346&amp;sz=28&amp;tbnid=mLvf1DqeYVMJ:&amp;tbnh=117&amp;tbnw=108&amp;start=8&amp;prev=/images%3Fq%3Doak%2Btree%26hl%3Den%26lr%3D%26ie%3DUTF-8%26sa%3DG" TargetMode="External"/><Relationship Id="rId3" Type="http://schemas.openxmlformats.org/officeDocument/2006/relationships/image" Target="../media/image1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ricochet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ricochet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shreg.wav"/><Relationship Id="rId3" Type="http://schemas.openxmlformats.org/officeDocument/2006/relationships/audio" Target="../media/drumroll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ECOLOGY WORDS 16-21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fox is a consumer.  Can you name what kind of consumer it 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about a do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kind of consumer is a de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29200" y="1981080"/>
            <a:ext cx="3809880" cy="28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ERE YOU RIGHT??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fox is an omnivore!!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 dog is true carnivore, however since dogs have been domesticated sometimes they are classified as an omn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75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And a deer of course is an herbivore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05120"/>
            <a:ext cx="380988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Why are decomposers  so important to our ecosystem?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et rid of rotting corpses (bodies) in the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lso put back needed nutrients into the soil so new producers can gro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is why they are called the recyclers of natur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5132160" y="194616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6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PRODUC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sms that contribute to the food cha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- Producers perform photosynthesis and can make their own f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ludes all green pl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30720" y="1600200"/>
            <a:ext cx="4013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7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ONSUM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organism that eats or consumes food to obtain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All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imals are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3 types of consum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1321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019920" y="1676520"/>
            <a:ext cx="1981080" cy="1485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8320" y="3733920"/>
            <a:ext cx="1957320" cy="14475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6934320" y="3429000"/>
            <a:ext cx="22096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8. 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HERB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plant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herb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132520" y="2225520"/>
            <a:ext cx="380988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19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CAR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consumer that eats only other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an you name some carnivores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724280" y="2268360"/>
            <a:ext cx="4218120" cy="367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0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OMNIVORE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Consumers that eat both plants and animal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Humans are omnivores 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132520" y="19051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TYPES OF CONSUM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380880" y="1981080"/>
          <a:ext cx="876312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981080"/>
                    <a:ext cx="876312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21. </a:t>
            </a:r>
            <a:r>
              <a:rPr b="0" lang="en-US" sz="4400" spc="-1" strike="noStrike" u="sng">
                <a:solidFill>
                  <a:srgbClr val="00ffff"/>
                </a:solidFill>
                <a:uFillTx/>
                <a:latin typeface="Times New Roman"/>
              </a:rPr>
              <a:t>DECOMPOSER-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n organism that changes dead organisms into chemicals that can be used again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Often called the “recyclers” of natu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638680" y="1676520"/>
            <a:ext cx="31244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MORE EXAMPLES OF PRODUC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6964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A tuli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Grass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imes New Roman"/>
              </a:rPr>
              <a:t>Even a venus fly trap is a producer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572000" y="182880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17:22:02Z</dcterms:created>
  <dc:creator>Amy Duff</dc:creator>
  <dc:description/>
  <dc:language>en-US</dc:language>
  <cp:lastModifiedBy>Kim Collazo</cp:lastModifiedBy>
  <dcterms:modified xsi:type="dcterms:W3CDTF">2007-11-21T16:16:26Z</dcterms:modified>
  <cp:revision>13</cp:revision>
  <dc:subject/>
  <dc:title>CH. 18 ECOLOGY LIST B</dc:title>
</cp:coreProperties>
</file>