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F84-B1D8-4091-83F9-63DF6CDF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B60-4160-4448-A8CC-C23D19CF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0FE-79DA-47FB-8F1C-5B2B5429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D1EC-5897-4D47-91C7-A4ABE7E0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A916-35B6-4630-A530-26E673B1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AF1E-54F5-41AB-BD5A-897D969D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68B5-EAB5-462D-8FE7-35C77DEF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04D1-1B7F-477B-8310-C5DC04FD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534D-0056-469E-9B24-C4E652FC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956A-A1C4-4CBD-BBA8-086D9039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9669-0D4C-4CB7-8B14-11665DA2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AD21-59B2-430A-90B2-EBB05801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B935-CCD4-4F76-97E2-B8518CDC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3439-CAD1-473E-A32A-7F41246E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5EFC-7EAB-4C58-9E9C-DF727B51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D72D-9C19-4ADF-8932-7E09AD4D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58D6-8571-43CC-9EC9-E7547401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B26-1A27-44CD-B9FA-11EA4EAE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CB8-9B22-4A58-B730-F3B91D1B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402-42FE-4D76-BD28-8F4F57D6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3DB-5D16-49CB-88D4-FE75CE23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5F7-CA4C-4D0A-90D9-89CBEBE5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B31-2C7E-4F56-88C3-BE8BC601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C3B1-D959-4811-97BB-717FA963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51FB-913D-4307-8D2A-8DC6089DD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4A25-AC06-490B-9370-19914642F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tmice.com/home/chipmunk/chipmunk.jpg&amp;imgrefurl=http://www.matmice.com/home/chipmunk&amp;h=293&amp;w=196&amp;sz=10&amp;tbnid=m4owpwqExPIJ:&amp;tbnh=110&amp;tbnw=74&amp;start=7&amp;prev=/images%3Fq%3Dchipmunk%26hl%3Den%26lr%3D%26ie%3DUTF-8%26sa%3D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COLOGY NOTES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6-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cooperation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s are animals that cooperate to build nests, find food, take care of their young, and prote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erstrail" descr=""/>
          <p:cNvPicPr/>
          <p:nvPr/>
        </p:nvPicPr>
        <p:blipFill>
          <a:blip r:embed="rId1"/>
          <a:stretch/>
        </p:blipFill>
        <p:spPr>
          <a:xfrm>
            <a:off x="5183280" y="1981080"/>
            <a:ext cx="2940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ore examples of cooperation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les help each other hunt by surrounding a school f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think of some other ways animals cooper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5372pod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6. </a:t>
            </a:r>
            <a:r>
              <a:rPr b="0" lang="en-US" sz="4400" spc="-1" strike="noStrike" u="sng">
                <a:solidFill>
                  <a:srgbClr val="3366ff"/>
                </a:solidFill>
                <a:uFillTx/>
                <a:latin typeface="Times New Roman"/>
              </a:rPr>
              <a:t>COEXISTENCE-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rganisms live together in the same habitat without harming or helping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COEXISTENCE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ake and a tur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ipmunk and a t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2133720" cy="1854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Photo: Box Turtle Crawling on Ground"/>
          <p:cNvPicPr/>
          <p:nvPr/>
        </p:nvPicPr>
        <p:blipFill>
          <a:blip r:embed="rId2"/>
          <a:stretch/>
        </p:blipFill>
        <p:spPr>
          <a:xfrm>
            <a:off x="6477120" y="2057400"/>
            <a:ext cx="2392200" cy="1863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962520" y="44197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781680" y="441972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ould a chipmunk and a squirrel be an example of coexistenc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, they would compete for the same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200400"/>
            <a:ext cx="2205000" cy="3276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25844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7. </a:t>
            </a:r>
            <a:r>
              <a:rPr b="0" lang="en-US" sz="4800" spc="-1" strike="noStrike" u="sng">
                <a:solidFill>
                  <a:srgbClr val="000066"/>
                </a:solidFill>
                <a:uFillTx/>
                <a:latin typeface="Times New Roman"/>
              </a:rPr>
              <a:t>LIMITING FACTOR-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A condition that interferes with the growth or survival of an orga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A lack of food, water, shelter and spa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LIMITNG FACTOR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any fish in a fish tank (lack of sp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owls and only 1 mouse (lack of fo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320040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33920" y="487692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6603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</a:rPr>
              <a:t>8.  </a:t>
            </a:r>
            <a:r>
              <a:rPr b="0" lang="en-US" sz="5400" spc="-1" strike="noStrike" u="sng">
                <a:solidFill>
                  <a:srgbClr val="000066"/>
                </a:solidFill>
                <a:uFillTx/>
                <a:latin typeface="Times New Roman"/>
              </a:rPr>
              <a:t>COMPETITION</a:t>
            </a:r>
            <a:r>
              <a:rPr b="0" lang="en-US" sz="4800" spc="-1" strike="noStrike" u="sng">
                <a:solidFill>
                  <a:srgbClr val="000066"/>
                </a:solidFill>
                <a:uFillTx/>
                <a:latin typeface="Times New Roman"/>
              </a:rPr>
              <a:t>-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form of conflict that may arise when organisms occupy a similar niche or need the same food, water, or 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etition can take place between animals of the same species or different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COMPETITION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wls in the last picture fighting with each other for th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pmunks and squirrels fighting over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315200" y="2133720"/>
            <a:ext cx="1320840" cy="1447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2857680" cy="190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343400" y="4343400"/>
            <a:ext cx="2819520" cy="163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254720" y="3962520"/>
            <a:ext cx="1889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</a:rPr>
              <a:t>9.</a:t>
            </a:r>
            <a:r>
              <a:rPr b="0" lang="en-US" sz="5400" spc="-1" strike="noStrike" u="sng">
                <a:solidFill>
                  <a:srgbClr val="000066"/>
                </a:solidFill>
                <a:uFillTx/>
                <a:latin typeface="Times New Roman"/>
              </a:rPr>
              <a:t> COOPERATION-</a:t>
            </a:r>
            <a:endParaRPr b="0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ing together to help each other surv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Cooperation takes place among animals of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ame species on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7:47:30Z</dcterms:created>
  <dc:creator>Amy Duff</dc:creator>
  <dc:description/>
  <dc:language>en-US</dc:language>
  <cp:lastModifiedBy>bfearns</cp:lastModifiedBy>
  <dcterms:modified xsi:type="dcterms:W3CDTF">2006-09-22T19:05:10Z</dcterms:modified>
  <cp:revision>5</cp:revision>
  <dc:subject/>
  <dc:title>ECOLOGY NOTES </dc:title>
</cp:coreProperties>
</file>