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957C-72F0-4AF2-97AA-E43ABEE5E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6C02-7488-4460-B0A5-B38D95BDD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9D93-2F99-4F62-B59A-B4AE61131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3FDA-03DE-4DFD-9C1A-44DD4FDED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6E199-B780-40F9-9BA2-4CD3E9013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88AA7-81C4-4DE9-B86D-BC2F79CF1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B3F4B-9339-4107-8282-AF27FB0C9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C643D-1E8F-49EF-9715-45267699C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2F7C3-23F7-4E79-AD52-33671E9BC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1B780-D73E-4264-862E-9FE2C4246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33D67-BE59-484A-A549-6FB2B259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0331-1489-4EEA-9DC0-1EB1A0DE6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C5FFA-206C-4C82-B33B-A8FA4A5DF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C0F18-D003-4013-ABF6-48D28D4A8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DAD6E-3D6D-476D-80DC-21D45752C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1ED75-D6CA-4AB7-B06B-F85DB8E14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6C7FC-12CA-4428-8D9C-C31099F4B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DF11-D1F4-4A20-8BC1-922FF7BE3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35F6-3767-4B1C-9680-330A7335C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95E2-237A-47B9-BF07-A18AAC86D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F621-9259-420E-9065-6A5EF98AA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8329-492F-479F-8623-71161BB5F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ECCF-54A2-4532-A364-5C436AD5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EE2B-CC34-47C5-8095-CE9F7095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66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99ff"/>
                </a:gs>
                <a:gs pos="50000">
                  <a:srgbClr val="ffffff"/>
                </a:gs>
                <a:gs pos="100000">
                  <a:srgbClr val="00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00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00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00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00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00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00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00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F812D-1A11-4070-8EC6-6BCF85CCCC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66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99ff"/>
                </a:gs>
                <a:gs pos="50000">
                  <a:srgbClr val="ffffff"/>
                </a:gs>
                <a:gs pos="100000">
                  <a:srgbClr val="00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cce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00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00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00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00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00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00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ccecff"/>
                </a:gs>
                <a:gs pos="100000">
                  <a:srgbClr val="00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16FDD-F82A-48D3-A1EB-C2B40E90FB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matmice.com/home/chipmunk/chipmunk.jpg&amp;imgrefurl=http://www.matmice.com/home/chipmunk&amp;h=293&amp;w=196&amp;sz=10&amp;tbnid=m4owpwqExPIJ:&amp;tbnh=110&amp;tbnw=74&amp;start=7&amp;prev=/images%3Fq%3Dchipmunk%26hl%3Den%26lr%3D%26ie%3DUTF-8%26sa%3DG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66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ECOLOGY NOTES</a:t>
            </a:r>
            <a:br>
              <a:rPr sz="4400"/>
            </a:b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s 6-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66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Examples of cooperation: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ts are animals that cooperate to build nests, find food, take care of their young, and protect each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erstrail" descr=""/>
          <p:cNvPicPr/>
          <p:nvPr/>
        </p:nvPicPr>
        <p:blipFill>
          <a:blip r:embed="rId1"/>
          <a:stretch/>
        </p:blipFill>
        <p:spPr>
          <a:xfrm>
            <a:off x="5183280" y="1981080"/>
            <a:ext cx="29401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66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More examples of cooperation: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les help each other hunt by surrounding a school fis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you think of some other ways animals coopera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5372pod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380988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66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Times New Roman"/>
              </a:rPr>
              <a:t>6. </a:t>
            </a:r>
            <a:r>
              <a:rPr b="0" lang="en-US" sz="4400" spc="-1" strike="noStrike" u="sng">
                <a:solidFill>
                  <a:srgbClr val="3366ff"/>
                </a:solidFill>
                <a:uFillTx/>
                <a:latin typeface="Times New Roman"/>
              </a:rPr>
              <a:t>COEXISTENCE-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organisms live together in the same habitat without harming or helping one an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66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EXAMPLES OF COEXISTENCE: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05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nake and a tur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hipmunk and a t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114800" y="2057400"/>
            <a:ext cx="2133720" cy="1854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Photo: Box Turtle Crawling on Ground"/>
          <p:cNvPicPr/>
          <p:nvPr/>
        </p:nvPicPr>
        <p:blipFill>
          <a:blip r:embed="rId2"/>
          <a:stretch/>
        </p:blipFill>
        <p:spPr>
          <a:xfrm>
            <a:off x="6477120" y="2057400"/>
            <a:ext cx="2392200" cy="1863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3962520" y="4419720"/>
            <a:ext cx="2514600" cy="18856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6781680" y="4419720"/>
            <a:ext cx="20574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66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Would a chipmunk and a squirrel be an example of coexistence?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, they would compete for the same f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19520" y="3200400"/>
            <a:ext cx="2205000" cy="32767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5486400" y="1981080"/>
            <a:ext cx="25844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66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66"/>
                </a:solidFill>
                <a:latin typeface="Times New Roman"/>
              </a:rPr>
              <a:t>7. </a:t>
            </a:r>
            <a:r>
              <a:rPr b="0" lang="en-US" sz="4800" spc="-1" strike="noStrike" u="sng">
                <a:solidFill>
                  <a:srgbClr val="000066"/>
                </a:solidFill>
                <a:uFillTx/>
                <a:latin typeface="Times New Roman"/>
              </a:rPr>
              <a:t>LIMITING FACTOR-</a:t>
            </a:r>
            <a:endParaRPr b="0" lang="en-US" sz="4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A condition that interferes with the growth or survival of an organis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-A lack of food, water, shelter and spac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66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EXAMPLES OF LIMITNG FACTOR: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o many fish in a fish tank (lack of spa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 owls and only 1 mouse (lack of foo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572000" y="1905120"/>
            <a:ext cx="3200400" cy="21859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733920" y="4876920"/>
            <a:ext cx="2514600" cy="16794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6705720" y="4724280"/>
            <a:ext cx="166032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66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66"/>
                </a:solidFill>
                <a:latin typeface="Times New Roman"/>
              </a:rPr>
              <a:t>8.  </a:t>
            </a:r>
            <a:r>
              <a:rPr b="0" lang="en-US" sz="5400" spc="-1" strike="noStrike" u="sng">
                <a:solidFill>
                  <a:srgbClr val="000066"/>
                </a:solidFill>
                <a:uFillTx/>
                <a:latin typeface="Times New Roman"/>
              </a:rPr>
              <a:t>COMPETITION</a:t>
            </a:r>
            <a:r>
              <a:rPr b="0" lang="en-US" sz="4800" spc="-1" strike="noStrike" u="sng">
                <a:solidFill>
                  <a:srgbClr val="000066"/>
                </a:solidFill>
                <a:uFillTx/>
                <a:latin typeface="Times New Roman"/>
              </a:rPr>
              <a:t>-</a:t>
            </a:r>
            <a:endParaRPr b="0" lang="en-US" sz="4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form of conflict that may arise when organisms occupy a similar niche or need the same food, water, or spa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petition can take place between animals of the same species or different spe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66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EXAMPLES OF COMPETITION: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wls in the last picture fighting with each other for the mo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ipmunks and squirrels fighting over s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7315200" y="2133720"/>
            <a:ext cx="1320840" cy="14475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114800" y="1981080"/>
            <a:ext cx="2857680" cy="19083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4343400" y="4343400"/>
            <a:ext cx="2819520" cy="16351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7254720" y="3962520"/>
            <a:ext cx="188928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6699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66"/>
                </a:solidFill>
                <a:latin typeface="Times New Roman"/>
              </a:rPr>
              <a:t>9.</a:t>
            </a:r>
            <a:r>
              <a:rPr b="0" lang="en-US" sz="5400" spc="-1" strike="noStrike" u="sng">
                <a:solidFill>
                  <a:srgbClr val="000066"/>
                </a:solidFill>
                <a:uFillTx/>
                <a:latin typeface="Times New Roman"/>
              </a:rPr>
              <a:t> COOPERATION-</a:t>
            </a:r>
            <a:endParaRPr b="0" lang="en-US" sz="5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orking together to help each other surv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- Cooperation takes place among animals of the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same species onl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1T17:47:30Z</dcterms:created>
  <dc:creator>Amy Duff</dc:creator>
  <dc:description/>
  <dc:language>en-US</dc:language>
  <cp:lastModifiedBy>bfearns</cp:lastModifiedBy>
  <dcterms:modified xsi:type="dcterms:W3CDTF">2006-09-22T19:05:10Z</dcterms:modified>
  <cp:revision>5</cp:revision>
  <dc:subject/>
  <dc:title>ECOLOGY NOTES </dc:title>
</cp:coreProperties>
</file>