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.wmf" ContentType="image/x-wmf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AA0D-89F1-4C89-B338-A4673D46A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A843-FA50-4EFE-AEE2-6949A8718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0C9E-41B8-4375-87B3-69E7D444C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C48E-A910-4133-B237-7D77A29E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95D6-962C-419C-AB58-ABFDE058D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6EB9-F3AB-4700-993C-12E450A3A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080AB-8E3F-43BC-A097-B36E6D3B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E841-C9A0-4E7B-9FD7-DDFCDB9E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64C5F-E0EA-4E35-BB8B-77B7C6FF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87ED-3CE3-441A-BCC2-8D703186A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2CD99-5995-45C7-A687-FCAD2E45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CB8B-571C-4206-9BF3-CC6239B0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443D-9159-4B0F-8FEF-C1ABECDE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FF90B-BA33-4F2C-8D9E-EF6CEF947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E51C3-452C-4D88-B0DF-2146DDBB5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99ED5-5B7C-4EFE-98F6-A3450D2B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4055-EDBD-4270-8530-80F0FBD4B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9590-7F66-4DAE-8386-269902AA4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69BF-A95E-4DD4-8885-58DABB47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C3EE-5C8D-463B-91C8-6C3F9CC9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8E33-6CF4-4AF2-9AA4-79F49291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4761-36DE-4867-85C8-F38F4162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9D54-31A3-4D50-B566-BB43135B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FCDD-37DC-4C2D-97BF-3FB76FC6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7795-E1FA-4127-95F4-4DFACE684A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46901-ED98-4299-B436-AACA7B21C2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en.wikipedia.org/wiki/Image:Lice_image01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SYMBIOTIC RELATIONSHIPS </a:t>
            </a:r>
            <a:br>
              <a:rPr sz="5400"/>
            </a:b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WORDS 10-15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	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4.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PARASITE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organism that lives off the energy of other living th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bad guy” in parasit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lea is a para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53000" y="1763640"/>
            <a:ext cx="403380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ORE EXAMPLES OF A PARASITE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oundworm is a parasite in the example of a cat and a roundw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ce is the parasite in the human and lice example of parasit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3809880" cy="2809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Sheep lice have translucent bodies and a proportionally large head and abdomen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4343400"/>
            <a:ext cx="2895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5.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HOST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organism that a parasite lives in or gets nourishment fr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“good guy” in the examples of parasit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AMPLES OF HOSTS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uman in the human and lice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at in the cat and roundworm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095880" y="1447920"/>
            <a:ext cx="2529000" cy="3235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733920" y="4267080"/>
            <a:ext cx="226368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ing worm on a huma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2578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apeworm In a rabbi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571500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apewor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41008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eart worm in a do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562360" cy="39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mmon NC Deer tick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5715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on’t let the bed bugs bite!!!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60199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0. 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Symbiosis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elationship in which two species exist together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t least one of the species benefi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rom the inte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three types of symbiotic relationships:  mutualism, commensalism and parasit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REE MAP OF SYMBIOTIC RELATIONSHIPS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2590920"/>
          <a:ext cx="914400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90920"/>
                    <a:ext cx="9144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1.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MUTUALISM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elationship between organisms in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oth species benef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rom the inte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in animals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fferent spe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 words: both benef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52640" y="1599840"/>
            <a:ext cx="4033800" cy="4530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42670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AMPLE OF MUTUALISM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ea anemone and a clown f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 anemone benefits because the clown fish attracts other fish and the clown fish benefits because it gets prot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302000" y="1889280"/>
            <a:ext cx="4384800" cy="39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2. 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COMMENSALISM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elationship between organisms in which one species benefits and the other species neither benefits nor is harmed by the inte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words:  one benefits, one unaff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AMPLE OF COMMENSALISM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2590920"/>
            <a:ext cx="4033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hark and a rem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emora benefits because it gets pieces of leftover food and the shark is unaff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800600" y="2027160"/>
            <a:ext cx="41418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3.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PARASITISM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403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elationship between organisms in which one species benefits and the other is harmed by the inte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 words: one benefits, one is harm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9895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ORE EXAMPLES OF PARASITISM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uman with l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ice benefits because it gets food and a place to live on the human. The human is harm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at and roundworm is another example.  Who benefits? Who’s harm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985000" y="1143000"/>
            <a:ext cx="3159000" cy="3200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486400" y="4443480"/>
            <a:ext cx="365760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8:02:26Z</dcterms:created>
  <dc:creator>Amy Duff</dc:creator>
  <dc:description/>
  <dc:language>en-US</dc:language>
  <cp:lastModifiedBy>Kim Collazo</cp:lastModifiedBy>
  <dcterms:modified xsi:type="dcterms:W3CDTF">2007-10-22T14:12:55Z</dcterms:modified>
  <cp:revision>5</cp:revision>
  <dc:subject/>
  <dc:title> SYMBIOTIC RELATIONSHIPS  WORDS 10-15 </dc:title>
</cp:coreProperties>
</file>