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A41-50A1-46D9-995A-B549BF90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61B-FBB5-497B-B2AC-6070C3F8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A9F-018F-4932-B548-4F17AD39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8E5-9C6D-4706-B313-02E977CF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5F55-EEE0-4AE6-AC89-C7A74805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8FD7-7DD5-46D3-8DAE-A6C47AC6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9D9D-FABE-4C16-983A-957ABC6A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D60B-EA0E-42F9-9200-DA49D4BD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72B2-2119-4494-B9F0-D748D650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5488-CA71-40F0-BC36-971120CC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2C7B-E718-4BAE-9511-6B5B6A7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85F-CDA7-4FA0-84E8-679A6541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39A1-C153-4FF2-A070-28F0D374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C042-06FD-418A-B1AD-2A52F92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BD7E-44E1-489D-8E0F-BDDBBA01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E2B5-0B89-4789-AC58-B53A41CF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D5D9-F3E7-4CCE-A17D-AF7E5447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EC9-ED20-4A01-BBA2-79508798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784-1E16-4734-92ED-5BDD748F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432-3538-45A2-BD92-3EEB972D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645-ABDA-422E-9E3A-1D17EED2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B90-CC6F-455C-BE8C-490E8218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944-0026-4AE4-AA3E-1C8DE197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93C-299F-4A78-A123-4029D696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DEEE-71C4-4276-BF32-2F03597D0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8C9E-75FE-487C-B587-042A20177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n.wikipedia.org/wiki/Image:Lice_image01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YMBIOTIC RELATIONSHIPS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ORDS 10-15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4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E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rganism that lives off the energy of other liv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bad guy” in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ea is a para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53000" y="1763640"/>
            <a:ext cx="4033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A PARASIT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undworm is a parasite in the example of a cat and a roundw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 is the parasite in the human and lice example of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809880" cy="2809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Sheep lice have translucent bodies and a proportionally large head and abdomen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343400"/>
            <a:ext cx="2895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5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HOST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a parasite lives in or gets nourishment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good guy” in the examples of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S OF HOST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uman in the human and lice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t in the cat and roundworm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529000" cy="3235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733920" y="4267080"/>
            <a:ext cx="22636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ing worm on a hum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257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 In a rabbi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715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eart worm in a do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562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mmon NC Deer tic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n’t let the bed bugs bite!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60199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0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Symbiosis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in which two species exist together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 least one of the species benefi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hree types of symbiotic relationships:  mutualism, commensalism and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MAP OF SYMBIOTIC RELATIONSHIP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590920"/>
          <a:ext cx="9144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1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MUTU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th species benef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in animal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ferent 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both bene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2640" y="159984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267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MUTU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a anemone and a clown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 anemone benefits because the clown fish attracts other fish and the clown fish benefits because it gets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02000" y="1889280"/>
            <a:ext cx="438480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2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COMMENS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species neither benefits nor is harmed by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words:  one benefits, one unaff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COMMENS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403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ark and a rem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mora benefits because it gets pieces of leftover food and the shark is unaff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00600" y="2027160"/>
            <a:ext cx="4141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3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03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is harmed by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one benefits, one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989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PARASIT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uman with 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ice benefits because it gets food and a place to live on the human. The human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 and roundworm is another example.  Who benefits? Who’s harm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85000" y="1143000"/>
            <a:ext cx="315900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86400" y="444348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2:26Z</dcterms:created>
  <dc:creator>Amy Duff</dc:creator>
  <dc:description/>
  <dc:language>en-US</dc:language>
  <cp:lastModifiedBy>Kim Collazo</cp:lastModifiedBy>
  <dcterms:modified xsi:type="dcterms:W3CDTF">2007-10-22T14:12:55Z</dcterms:modified>
  <cp:revision>5</cp:revision>
  <dc:subject/>
  <dc:title> SYMBIOTIC RELATIONSHIPS  WORDS 10-15 </dc:title>
</cp:coreProperties>
</file>