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232-F7C3-45F9-AE54-41088FE6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B7E-30F8-4F7C-BE91-4E4B046F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2EA5-BD23-4EF9-B9A8-8DDC696D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35C-E9E8-4911-BFEE-F70CBDEF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6C8B-A4CD-468A-A214-3EAC3197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944C-3B96-4229-9ABD-CCABF704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2F20-6485-4732-B008-779C3DA8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EBE4-B01F-4340-9045-0D9BFA0C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DECF-B958-44BC-9830-9B8F4787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5854-79C4-413E-9979-D41525C0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05CB-7C7B-46F9-A160-57883AD4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4EE9-46C2-467F-8630-B8C8F009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A7B8-E707-4057-A809-04B26826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6614-F4C5-4AC0-9EC3-9130C60E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0B75-D880-454C-8778-9EC80849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C233-2C6D-43CD-8E3A-BA0D217E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5C22-1EA7-489C-BE24-AB831808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316-A787-4364-A003-4FBD16F2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226-1335-45A1-A0AF-E714B271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019-4484-4E60-B3FA-38721B06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AF3-929E-4AD6-A780-34CD9C51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031-5355-43D8-AADC-035D093D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61F-F346-41CA-B58B-29903149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646-0C4F-4796-B230-31F59DCA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3825-D69E-4DC6-A9E6-6ECC18323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FFD0-5E2B-429C-8493-C5974AF78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en.wikipedia.org/wiki/Image:Lice_image01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YMBIOTIC RELATIONSHIPS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WORDS 10-15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4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PARASITE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rganism that lives off the energy of other liv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bad guy” in parasi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lea is a para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53000" y="1763640"/>
            <a:ext cx="40338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RE EXAMPLES OF A PARASIT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oundworm is a parasite in the example of a cat and a roundw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e is the parasite in the human and lice example of parasi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809880" cy="2809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Sheep lice have translucent bodies and a proportionally large head and abdomen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4343400"/>
            <a:ext cx="2895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5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HOST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 that a parasite lives in or gets nourishment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good guy” in the examples of parasi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S OF HOSTS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uman in the human and lice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at in the cat and roundworm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529000" cy="3235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733920" y="4267080"/>
            <a:ext cx="226368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ing worm on a hum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2578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peworm In a rabbi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715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pewor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eart worm in a do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56236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mmon NC Deer tic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715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on’t let the bed bugs bite!!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60199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0. 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Symbiosis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lationship in which two species exist together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t least one of the species benefi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the inte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hree types of symbiotic relationships:  mutualism, commensalism and parasi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MAP OF SYMBIOTIC RELATIONSHIPS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590920"/>
          <a:ext cx="9144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1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MUTUAL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lationship between organisms in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th species benef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the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in animal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ferent 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words: both bene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52640" y="1599840"/>
            <a:ext cx="4033800" cy="4530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267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 OF MUTUAL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ea anemone and a clown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 anemone benefits because the clown fish attracts other fish and the clown fish benefits because it gets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02000" y="1889280"/>
            <a:ext cx="438480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2. 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COMMENSAL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lationship between organisms in which one species benefits and the other species neither benefits nor is harmed by the inte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words:  one benefits, one unaff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 OF COMMENSAL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403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ark and a rem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mora benefits because it gets pieces of leftover food and the shark is unaff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800600" y="2027160"/>
            <a:ext cx="41418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3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PARASIT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403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lationship between organisms in which one species benefits and the other is harmed by the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words: one benefits, one is ha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989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RE EXAMPLES OF PARASIT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uman with l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ice benefits because it gets food and a place to live on the human. The human is ha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t and roundworm is another example.  Who benefits? Who’s harm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985000" y="1143000"/>
            <a:ext cx="3159000" cy="3200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86400" y="4443480"/>
            <a:ext cx="36576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2:26Z</dcterms:created>
  <dc:creator>Amy Duff</dc:creator>
  <dc:description/>
  <dc:language>en-US</dc:language>
  <cp:lastModifiedBy>Kim Collazo</cp:lastModifiedBy>
  <dcterms:modified xsi:type="dcterms:W3CDTF">2007-10-22T14:12:55Z</dcterms:modified>
  <cp:revision>5</cp:revision>
  <dc:subject/>
  <dc:title> SYMBIOTIC RELATIONSHIPS  WORDS 10-15 </dc:title>
</cp:coreProperties>
</file>