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E20E-BB52-4DB7-9AD6-B8391262D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41A6-B191-44DC-8A73-8CE4E787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705-228A-43FC-8FD3-246D69921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F771-58E1-43EA-8A32-20BDBB337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10AA4-1998-4671-9B45-61157A6F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BA8D-12A9-4004-89D3-EC5A6B8D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44A7-A0F0-404E-82FA-75E7B4E5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0EAD8-ADE2-4DD7-B43D-BAAAEC1A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FBF2-B0E4-4945-8426-02F254B2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CDD91-3FF5-48E2-8A17-91B0CE30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2DC4-D6DF-4109-BFE9-EF9D88D9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94CD-677C-4494-8EBF-07BB3239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CFF41-2140-4FB9-87E3-BD3E2739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58FB1-F492-49F7-B878-57EBD412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6730-B1B4-456E-BD40-885CF447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7DC2-6C5B-4A58-8DBE-75544446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50C3-5213-4774-A0B3-E987B2577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169-4DF6-4437-886A-D513EE2F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1E29-857D-4979-AF38-10A3E8E3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E019-C8BD-4506-BB47-A02C9175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1C49-4B41-4F5B-A655-AEBABB634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1500-6157-4C28-AEBF-CE18125A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084-2FFC-4F79-9FBC-58DA57BD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4C7-36D3-47DB-847E-56F23FBDF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1978-1217-4852-A0CF-BD5B7F8DA8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E1C3-626F-4FB9-84BB-1CACAA2C1E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en.wikipedia.org/wiki/Image:Lice_image01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YMBIOTIC RELATIONSHIPS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ORDS 10-15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4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ARASITE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rganism that lives off the energy of other liv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bad guy” in parasi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ea is a para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53000" y="1763640"/>
            <a:ext cx="40338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EXAMPLES OF A PARASIT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undworm is a parasite in the example of a cat and a roundw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e is the parasite in the human and lice example of parasi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809880" cy="2809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Sheep lice have translucent bodies and a proportionally large head and abdomen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343400"/>
            <a:ext cx="2895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5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HOST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 that a parasite lives in or gets nourishment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good guy” in the examples of parasi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S OF HOST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uman in the human and lice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t in the cat and roundworm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529000" cy="3235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733920" y="4267080"/>
            <a:ext cx="226368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ing worm on a hum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2578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peworm In a rabbi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715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pewor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eart worm in a do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5623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mmon NC Deer tic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15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n’t let the bed bugs bite!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60199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0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Symbiosis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lationship in which two species exist together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t least one of the species benefi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the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hree types of symbiotic relationships:  mutualism, commensalism and parasi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MAP OF SYMBIOTIC RELATIONSHIP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590920"/>
          <a:ext cx="9144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1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MUTUAL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between organisms in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th species benef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the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in animal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ferent 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words: both bene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52640" y="159984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267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 OF MUTUAL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a anemone and a clown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 anemone benefits because the clown fish attracts other fish and the clown fish benefits because it gets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02000" y="1889280"/>
            <a:ext cx="438480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2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COMMENSAL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lationship between organisms in which one species benefits and the other species neither benefits nor is harmed by the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words:  one benefits, one unaff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 OF COMMENSAL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403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ark and a rem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mora benefits because it gets pieces of leftover food and the shark is unaff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00600" y="2027160"/>
            <a:ext cx="4141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3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ARASIT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403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between organisms in which one species benefits and the other is harmed by the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words: one benefits, one is ha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989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EXAMPLES OF PARASIT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uman with l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ice benefits because it gets food and a place to live on the human. The human is ha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t and roundworm is another example.  Who benefits? Who’s harm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85000" y="1143000"/>
            <a:ext cx="315900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86400" y="444348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2:26Z</dcterms:created>
  <dc:creator>Amy Duff</dc:creator>
  <dc:description/>
  <dc:language>en-US</dc:language>
  <cp:lastModifiedBy>Kim Collazo</cp:lastModifiedBy>
  <dcterms:modified xsi:type="dcterms:W3CDTF">2007-10-22T14:12:55Z</dcterms:modified>
  <cp:revision>5</cp:revision>
  <dc:subject/>
  <dc:title> SYMBIOTIC RELATIONSHIPS  WORDS 10-15 </dc:title>
</cp:coreProperties>
</file>