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cashreg.wav" ContentType="audio/x-wav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whoosh.wav" ContentType="audio/x-wav"/>
  <Override PartName="/ppt/media/image10.jpeg" ContentType="image/jpeg"/>
  <Override PartName="/ppt/media/image7.jpeg" ContentType="image/jpeg"/>
  <Override PartName="/ppt/media/camera.wav" ContentType="audio/x-wav"/>
  <Override PartName="/ppt/media/explode.wav" ContentType="audio/x-wav"/>
  <Override PartName="/ppt/media/image1.jpeg" ContentType="image/jpeg"/>
  <Override PartName="/ppt/media/image4.jpeg" ContentType="image/jpeg"/>
  <Override PartName="/ppt/media/image2.jpeg" ContentType="image/jpeg"/>
  <Override PartName="/ppt/media/ricochet.wav" ContentType="audio/x-wav"/>
  <Override PartName="/ppt/media/clap.wav" ContentType="audio/x-wav"/>
  <Override PartName="/ppt/media/chimes.wav" ContentType="audio/x-wav"/>
  <Override PartName="/ppt/media/glas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media/drumroll.wav" ContentType="audio/x-wav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010-5439-47D9-948B-A5016F1B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6E24-52B1-4D41-8568-23642FCA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5AD-7F94-4ABC-8CAF-269E10DD1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FAF2-9E51-43A5-A836-075A1910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A0A4A-BD3F-425A-9B3E-278A425E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5539-C40E-4B27-ABE2-2703C566C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A3557-6C64-4D10-8672-0B235B6D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600DF-757B-4A79-973F-02AECD0B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2558-1F44-4CC5-A3BD-90FCB9EA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D5A91-ACA8-4203-8A71-DB64A0CE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D716-F404-4B64-BCD8-97BA0228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125-C9B9-40B7-ABA3-558E4D5E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B982-5643-4D34-AFC2-2B6046C4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6DB4-6EC5-4313-814D-4D8ED3E4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40E52-D311-4D06-B228-180F56AD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B9CA8-085A-4FEC-943D-87D08F592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11C6-EF0A-4709-88FD-84C8952EA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5D52-6FBE-4D1A-B236-9A6D6CB0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AE0D-4958-45EF-AA18-C39A24AC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DB5-D1F4-437D-9DED-DD4BAA94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0AC-044B-42F4-BDB6-0C556C6F1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6AF3-6986-4846-A11C-954319FC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6F8-98EB-4097-9CA2-B52F45CB9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1FC3-8D74-4700-87E3-DF34DC4D3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0CEBE-72C9-47DA-878F-DF30DBFD12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3E562-4038-48DC-8E20-18D8F22E1A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pplause.wav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explode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glass.wav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oplin.lib.oh.us/products/tree/fact%2520pages/maple_red/tree.jpg&amp;imgrefurl=http://www.oplin.lib.oh.us/products/tree/fact%2520pages/maple_red/maple_red.html&amp;h=218&amp;w=190&amp;sz=31&amp;tbnid=szduoEATK7kJ:&amp;tbnh=100&amp;tbnw=88&amp;prev=/images%3Fq%3Dmaple%2Btree%26hl%3Den%26lr%3D%26ie%3DUTF-8%26oe%3DUTF-8%26sa%3DN" TargetMode="External"/><Relationship Id="rId2" Type="http://schemas.openxmlformats.org/officeDocument/2006/relationships/hyperlink" Target="http://images.google.com/imgres?imgurl=http://www.hurst-water-meadow.co.uk/images/oak_tree.jpg&amp;imgrefurl=http://www.hurst-water-meadow.co.uk/maps/main_map.htm&amp;h=378&amp;w=346&amp;sz=28&amp;tbnid=mLvf1DqeYVMJ:&amp;tbnh=117&amp;tbnw=108&amp;start=8&amp;prev=/images%3Fq%3Doak%2Btree%26hl%3Den%26lr%3D%26ie%3DUTF-8%26sa%3DG" TargetMode="External"/><Relationship Id="rId3" Type="http://schemas.openxmlformats.org/officeDocument/2006/relationships/image" Target="../media/image1.jpeg"/><Relationship Id="rId4" Type="http://schemas.openxmlformats.org/officeDocument/2006/relationships/audio" Target="../media/ricochet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ricochet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shreg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COLOGY WORDS 16-21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RE EXAMPLES OF CONSUM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ox is a consumer.  Can you name what kind of consumer it 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bout a do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 of consumer is a de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098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ERE YOU RIGHT???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 fox is an omnivore!!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 dog is true carnivore, however since dogs have been domesticated sometimes they are classified as an omnivor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nd a deer of course is an herbivor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809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are decomposers  so important to our ecosystem?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et rid of rotting corpses (bodies) in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so put back needed nutrients into the soil so new producers can g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is why they are called the recyclers of na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132160" y="194616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6. 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PRODUCER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sms that contribute to the food ch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Producers perform photosynthesis and can make their own 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ll green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30720" y="1600200"/>
            <a:ext cx="401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7. 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CONSUMER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rganism that eats or consumes food to obtain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imals are consu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3 types of consu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1957320" cy="1447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934320" y="342900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8. 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HERBIVORE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 consumer that eats only plants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an you name some herbivores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32520" y="2225520"/>
            <a:ext cx="380988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9.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CARNIVORE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 consumer that eats only other animal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an you name some carnivores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724280" y="2268360"/>
            <a:ext cx="421812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20.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OMNIVORE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onsumers that eat both plants and animal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Humans are omnivores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13252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YPES OF CONSUM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80880" y="1981080"/>
          <a:ext cx="876312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7631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21.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DECOMPOSER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n organism that changes dead organisms into chemicals that can be used agai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Often called the “recyclers” of natur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3124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RE EXAMPLES OF PRODUC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 tulip is a produc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Grass is a produc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Even a venus fly trap is a produc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7:22:02Z</dcterms:created>
  <dc:creator>Amy Duff</dc:creator>
  <dc:description/>
  <dc:language>en-US</dc:language>
  <cp:lastModifiedBy>Kim Collazo</cp:lastModifiedBy>
  <dcterms:modified xsi:type="dcterms:W3CDTF">2007-11-21T16:16:26Z</dcterms:modified>
  <cp:revision>13</cp:revision>
  <dc:subject/>
  <dc:title>CH. 18 ECOLOGY LIST B</dc:title>
</cp:coreProperties>
</file>