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cashreg.wav" ContentType="audio/x-wav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whoosh.wav" ContentType="audio/x-wav"/>
  <Override PartName="/ppt/media/image10.jpeg" ContentType="image/jpeg"/>
  <Override PartName="/ppt/media/image7.jpeg" ContentType="image/jpeg"/>
  <Override PartName="/ppt/media/camera.wav" ContentType="audio/x-wav"/>
  <Override PartName="/ppt/media/explode.wav" ContentType="audio/x-wav"/>
  <Override PartName="/ppt/media/image1.jpeg" ContentType="image/jpeg"/>
  <Override PartName="/ppt/media/image4.jpeg" ContentType="image/jpeg"/>
  <Override PartName="/ppt/media/image2.jpeg" ContentType="image/jpeg"/>
  <Override PartName="/ppt/media/ricochet.wav" ContentType="audio/x-wav"/>
  <Override PartName="/ppt/media/clap.wav" ContentType="audio/x-wav"/>
  <Override PartName="/ppt/media/chimes.wav" ContentType="audio/x-wav"/>
  <Override PartName="/ppt/media/glas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drumroll.wav" ContentType="audio/x-wav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BF77-A397-442E-8F70-0AA3B2632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2A6F-36EF-4EDB-A13E-24A485F7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45F-DAD5-4D65-8129-389945F7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D87B-E94F-4B49-9FA8-BFD7B9426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DA77-422A-461A-A7D5-A97B5232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5A05-A2F0-47CA-BAB0-0195DD34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0D03D-06E7-41F5-9C61-4AD35AF4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623B-0161-4C6E-AEEB-D37484F21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3EEC-BC2D-422E-B95C-939E0D63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AD0C1-D2C0-46C9-B764-AD9B0C9F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C197-263B-4F61-85AF-A35C5D0B3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5F0-FCF6-440D-A094-F442B7A7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10D5-1E2A-4A37-B71F-F9BDCB10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EF31-4B03-44DE-851A-35697A1F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D3BDD-F48F-49D9-9847-9E466419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D55C-9E4E-43BB-A533-87575D1C4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70F5-B0FF-441B-B2D2-DF2CDC690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8237-9C49-4691-993E-E167BD32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E38-E907-48EA-8CE7-DFCEE7D7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4279-8304-4D9C-AD7B-C660D6FB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41C2-62A0-4634-B8A5-3306107D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51F3-B83F-4810-B1DC-22BF8BEA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151B-61DB-43F3-A688-6D56312B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6D7-98F1-4A84-B5B6-E9436EAE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E50BD-3B5E-46A8-AC21-96A62CA0B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CBBA-84F5-48F9-A820-ABCDB1F314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glass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oplin.lib.oh.us/products/tree/fact%2520pages/maple_red/tree.jpg&amp;imgrefurl=http://www.oplin.lib.oh.us/products/tree/fact%2520pages/maple_red/maple_red.html&amp;h=218&amp;w=190&amp;sz=31&amp;tbnid=szduoEATK7kJ:&amp;tbnh=100&amp;tbnw=88&amp;prev=/images%3Fq%3Dmaple%2Btree%26hl%3Den%26lr%3D%26ie%3DUTF-8%26oe%3DUTF-8%26sa%3DN" TargetMode="External"/><Relationship Id="rId2" Type="http://schemas.openxmlformats.org/officeDocument/2006/relationships/hyperlink" Target="http://images.google.com/imgres?imgurl=http://www.hurst-water-meadow.co.uk/images/oak_tree.jpg&amp;imgrefurl=http://www.hurst-water-meadow.co.uk/maps/main_map.htm&amp;h=378&amp;w=346&amp;sz=28&amp;tbnid=mLvf1DqeYVMJ:&amp;tbnh=117&amp;tbnw=108&amp;start=8&amp;prev=/images%3Fq%3Doak%2Btree%26hl%3Den%26lr%3D%26ie%3DUTF-8%26sa%3DG" TargetMode="External"/><Relationship Id="rId3" Type="http://schemas.openxmlformats.org/officeDocument/2006/relationships/image" Target="../media/image1.jpeg"/><Relationship Id="rId4" Type="http://schemas.openxmlformats.org/officeDocument/2006/relationships/audio" Target="../media/ricochet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ricochet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shreg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COLOGY WORDS 16-21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EXAMPLES OF CONSUM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ox is a consumer.  Can you name what kind of consumer it 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bout a do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consumer is a de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RE YOU RIGHT???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fox is an omnivore!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dog is true carnivore, however since dogs have been domesticated sometimes they are classified as an omnivor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nd a deer of course is an herbivor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are decomposers  so important to our ecosystem?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et rid of rotting corpses (bodies)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so put back needed nutrients into the soil so new producers can g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is why they are called the recyclers of na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132160" y="19461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6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PRODUC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sms that contribute to the food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Producers perform photosynthesis and can make their own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ll green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30720" y="1600200"/>
            <a:ext cx="401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7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CONSUM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 that eats or consumes food to obta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imals are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 types of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1957320" cy="1447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934320" y="34290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8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HERB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consumer that eats only plant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an you name some herbivore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32520" y="2225520"/>
            <a:ext cx="38098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9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CARN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consumer that eats only other animal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an you name some carnivore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24280" y="2268360"/>
            <a:ext cx="421812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0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MN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onsumers that eat both plants and animal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Humans are omnivore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3252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YPES OF CONSUM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80880" y="1981080"/>
          <a:ext cx="87631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7631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1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DECOMPOS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n organism that changes dead organisms into chemicals that can be used agai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Often called the “recyclers” of natur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12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EXAMPLES OF PRODUC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tulip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Grass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Even a venus fly trap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7:22:02Z</dcterms:created>
  <dc:creator>Amy Duff</dc:creator>
  <dc:description/>
  <dc:language>en-US</dc:language>
  <cp:lastModifiedBy>Kim Collazo</cp:lastModifiedBy>
  <dcterms:modified xsi:type="dcterms:W3CDTF">2007-11-21T16:16:26Z</dcterms:modified>
  <cp:revision>13</cp:revision>
  <dc:subject/>
  <dc:title>CH. 18 ECOLOGY LIST B</dc:title>
</cp:coreProperties>
</file>