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B89C-DFC3-4E53-B819-139AFC0D7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4491-D55C-4A92-9D91-73173E8B5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1A65-A685-4DB4-A32B-D521C963F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4FAE-612D-4E57-97B8-2C19F2EDA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2EF30-761C-41C0-9414-970A7421B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C116B-D45C-47F5-A3B3-E78F92E88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A6719-97FF-4BAF-85B3-BBA37239D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45A00-7488-4CB7-A020-AEDFFF97C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8A76B-9CC5-4089-8D4D-B034DDCC3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D331E-AB8C-4066-9692-954A43F75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21F53-F8B0-4BEC-8F06-FC09E18C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7399-1F2B-444B-9C19-74FD10B39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5C7A9-619B-4DC6-BDED-E66696E4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EA700-0632-4008-BD39-53DAA86F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2113E-DAF3-47EF-8B53-C0628542A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D675F-E477-49E9-AF8E-585E700CC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61824-9C2C-44BA-B3A7-C778FCECE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E35D-2A3D-401A-8F27-7E79B9EB6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9298-87AE-4B50-8149-4A398757C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9958-E237-469B-BE93-351E42559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DBF3-3FD8-4863-BC33-431C1B9A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3571-4FDE-4526-8ABB-E843D68C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C347-0E41-4368-B87E-7472CA40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C542-3A7B-4BF3-BB92-18579C8A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50000">
                  <a:srgbClr val="ffff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3C34F-1DFD-4E36-8402-01434F4336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50000">
                  <a:srgbClr val="ffff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C1988-7145-4B60-B292-9D0D0E8A7D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atmice.com/home/chipmunk/chipmunk.jpg&amp;imgrefurl=http://www.matmice.com/home/chipmunk&amp;h=293&amp;w=196&amp;sz=10&amp;tbnid=m4owpwqExPIJ:&amp;tbnh=110&amp;tbnw=74&amp;start=7&amp;prev=/images%3Fq%3Dchipmunk%26hl%3Den%26lr%3D%26ie%3DUTF-8%26sa%3DG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ECOLOGY NOTES</a:t>
            </a:r>
            <a:br>
              <a:rPr sz="4400"/>
            </a:b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s 6-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Examples of cooperation: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s are animals that cooperate to build nests, find food, take care of their young, and protect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erstrail" descr=""/>
          <p:cNvPicPr/>
          <p:nvPr/>
        </p:nvPicPr>
        <p:blipFill>
          <a:blip r:embed="rId1"/>
          <a:stretch/>
        </p:blipFill>
        <p:spPr>
          <a:xfrm>
            <a:off x="5183280" y="1981080"/>
            <a:ext cx="29401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More examples of cooperation: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les help each other hunt by surrounding a school fis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you think of some other ways animals coopera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5372pod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8098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6. </a:t>
            </a:r>
            <a:r>
              <a:rPr b="0" lang="en-US" sz="4400" spc="-1" strike="noStrike" u="sng">
                <a:solidFill>
                  <a:srgbClr val="3366ff"/>
                </a:solidFill>
                <a:uFillTx/>
                <a:latin typeface="Times New Roman"/>
              </a:rPr>
              <a:t>COEXISTENCE-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organisms live together in the same habitat without harming or helping one 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EXAMPLES OF COEXISTENCE: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nake and a tur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hipmunk and a t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114800" y="2057400"/>
            <a:ext cx="2133720" cy="1854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Photo: Box Turtle Crawling on Ground"/>
          <p:cNvPicPr/>
          <p:nvPr/>
        </p:nvPicPr>
        <p:blipFill>
          <a:blip r:embed="rId2"/>
          <a:stretch/>
        </p:blipFill>
        <p:spPr>
          <a:xfrm>
            <a:off x="6477120" y="2057400"/>
            <a:ext cx="2392200" cy="1863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3962520" y="4419720"/>
            <a:ext cx="2514600" cy="1885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6781680" y="4419720"/>
            <a:ext cx="20574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Would a chipmunk and a squirrel be an example of coexistence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, they would compete for the same f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3200400"/>
            <a:ext cx="2205000" cy="3276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486400" y="1981080"/>
            <a:ext cx="25844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Times New Roman"/>
              </a:rPr>
              <a:t>7. </a:t>
            </a:r>
            <a:r>
              <a:rPr b="0" lang="en-US" sz="4800" spc="-1" strike="noStrike" u="sng">
                <a:solidFill>
                  <a:srgbClr val="000066"/>
                </a:solidFill>
                <a:uFillTx/>
                <a:latin typeface="Times New Roman"/>
              </a:rPr>
              <a:t>LIMITING FACTOR-</a:t>
            </a:r>
            <a:endParaRPr b="0" lang="en-US" sz="4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A condition that interferes with the growth or survival of an organ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A lack of food, water, shelter and spac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EXAMPLES OF LIMITNG FACTOR: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o many fish in a fish tank (lack of sp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owls and only 1 mouse (lack of foo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72000" y="1905120"/>
            <a:ext cx="3200400" cy="21859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733920" y="4876920"/>
            <a:ext cx="2514600" cy="16794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6705720" y="4724280"/>
            <a:ext cx="166032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Times New Roman"/>
              </a:rPr>
              <a:t>8.  </a:t>
            </a:r>
            <a:r>
              <a:rPr b="0" lang="en-US" sz="5400" spc="-1" strike="noStrike" u="sng">
                <a:solidFill>
                  <a:srgbClr val="000066"/>
                </a:solidFill>
                <a:uFillTx/>
                <a:latin typeface="Times New Roman"/>
              </a:rPr>
              <a:t>COMPETITION</a:t>
            </a:r>
            <a:r>
              <a:rPr b="0" lang="en-US" sz="4800" spc="-1" strike="noStrike" u="sng">
                <a:solidFill>
                  <a:srgbClr val="000066"/>
                </a:solidFill>
                <a:uFillTx/>
                <a:latin typeface="Times New Roman"/>
              </a:rPr>
              <a:t>-</a:t>
            </a:r>
            <a:endParaRPr b="0" lang="en-US" sz="4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form of conflict that may arise when organisms occupy a similar niche or need the same food, water, or sp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etition can take place between animals of the same species or different spe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EXAMPLES OF COMPETITION: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wls in the last picture fighting with each other for the mo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pmunks and squirrels fighting over s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315200" y="2133720"/>
            <a:ext cx="1320840" cy="14475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114800" y="1981080"/>
            <a:ext cx="2857680" cy="1908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343400" y="4343400"/>
            <a:ext cx="2819520" cy="163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7254720" y="3962520"/>
            <a:ext cx="188928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Times New Roman"/>
              </a:rPr>
              <a:t>9.</a:t>
            </a:r>
            <a:r>
              <a:rPr b="0" lang="en-US" sz="5400" spc="-1" strike="noStrike" u="sng">
                <a:solidFill>
                  <a:srgbClr val="000066"/>
                </a:solidFill>
                <a:uFillTx/>
                <a:latin typeface="Times New Roman"/>
              </a:rPr>
              <a:t> COOPERATION-</a:t>
            </a:r>
            <a:endParaRPr b="0" lang="en-US" sz="5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orking together to help each other surv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 Cooperation takes place among animals of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same species on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17:47:30Z</dcterms:created>
  <dc:creator>Amy Duff</dc:creator>
  <dc:description/>
  <dc:language>en-US</dc:language>
  <cp:lastModifiedBy>bfearns</cp:lastModifiedBy>
  <dcterms:modified xsi:type="dcterms:W3CDTF">2006-09-22T19:05:10Z</dcterms:modified>
  <cp:revision>5</cp:revision>
  <dc:subject/>
  <dc:title>ECOLOGY NOTES </dc:title>
</cp:coreProperties>
</file>