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3FE-864C-407A-A131-547217BD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51A-584F-47E2-A45A-4CC24738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A94-8AFB-41E8-986E-6DD4E4FC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AF4-0712-4A60-90F7-EE8A5D81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D2AB-0897-49B3-8DAC-B629FB0D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08AF-0852-478E-B7C1-1D4C965D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ECCB-E7B0-4F14-BE6B-64F17E99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C4F0-54E6-4367-966C-75DBAFD6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DAFD-733E-4AE2-97EA-519824EE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9E14-38B5-420D-A046-4A6E4499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25B-8B40-4FBB-AB13-4A28909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9AA-F0AF-4E8F-8DAE-7642C7DD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8683-855C-46BA-A872-3227D288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B7BB-7EEE-4769-8669-F1DC7B3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449-A63B-498C-BC5E-9ECAFBAC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4424-AC67-403B-8488-3F526C94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F5ED-6F78-4FC2-82B8-5EFFD987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381-8211-48D9-8F76-E599B4D0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337-F4C7-4E6B-8F66-FECC18E8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737-17BA-4D4C-8703-03560142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38E-BE55-4A8A-A337-FB1C2F3D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054-90F6-45EE-B8C8-C7A85EE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8A0-670C-4300-8E4A-B93CA7FA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3F1-5CF0-4351-A6F2-6F3837A0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969D-C41B-438B-BD0D-4AF042FD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3E07-E180-4906-ABAC-270A9F954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mice.com/home/chipmunk/chipmunk.jpg&amp;imgrefurl=http://www.matmice.com/home/chipmunk&amp;h=293&amp;w=196&amp;sz=10&amp;tbnid=m4owpwqExPIJ:&amp;tbnh=110&amp;tbnw=74&amp;start=7&amp;prev=/images%3Fq%3Dchipmunk%26hl%3Den%26lr%3D%26ie%3DUTF-8%26sa%3D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COLOGY NOTES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6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s are animals that cooperate to build nests, find food, take care of their young, and prote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erstrail" descr=""/>
          <p:cNvPicPr/>
          <p:nvPr/>
        </p:nvPicPr>
        <p:blipFill>
          <a:blip r:embed="rId1"/>
          <a:stretch/>
        </p:blipFill>
        <p:spPr>
          <a:xfrm>
            <a:off x="5183280" y="1981080"/>
            <a:ext cx="294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re 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les help each other hunt by surrounding a school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hink of some other ways animals coope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5372pod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6. </a:t>
            </a:r>
            <a:r>
              <a:rPr b="0" lang="en-US" sz="4400" spc="-1" strike="noStrike" u="sng">
                <a:solidFill>
                  <a:srgbClr val="3366ff"/>
                </a:solidFill>
                <a:uFillTx/>
                <a:latin typeface="Times New Roman"/>
              </a:rPr>
              <a:t>COEXISTENCE-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rganisms live together in the same habitat without harming or helping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EXISTENCE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ake and a tur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ipmunk and a t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2133720" cy="185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: Box Turtle Crawling on Ground"/>
          <p:cNvPicPr/>
          <p:nvPr/>
        </p:nvPicPr>
        <p:blipFill>
          <a:blip r:embed="rId2"/>
          <a:stretch/>
        </p:blipFill>
        <p:spPr>
          <a:xfrm>
            <a:off x="6477120" y="2057400"/>
            <a:ext cx="2392200" cy="186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62520" y="4419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ould a chipmunk and a squirrel be an example of coexistenc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, they would compete for the sam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200400"/>
            <a:ext cx="22050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584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7. 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LIMITING FACTOR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condition that interferes with the growth or survival of an org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lack of food, water, shelter and spa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LIMITNG FACTOR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fish in a fish tank (lack of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owls and only 1 mouse (lack of 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20040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660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8.  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COMPETITION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orm of conflict that may arise when organisms occupy a similar niche or need the same food, water, or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etition can take place between animals of the same species or different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MPETI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ls in the last picture fighting with each other for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munks and squirrels fighting over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320840" cy="144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2857680" cy="19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2819520" cy="163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254720" y="3962520"/>
            <a:ext cx="1889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9.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 COOPERATION-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ing together to help each other sur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Cooperation takes place among animal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ame species o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7:30Z</dcterms:created>
  <dc:creator>Amy Duff</dc:creator>
  <dc:description/>
  <dc:language>en-US</dc:language>
  <cp:lastModifiedBy>bfearns</cp:lastModifiedBy>
  <dcterms:modified xsi:type="dcterms:W3CDTF">2006-09-22T19:05:10Z</dcterms:modified>
  <cp:revision>5</cp:revision>
  <dc:subject/>
  <dc:title>ECOLOGY NOTES </dc:title>
</cp:coreProperties>
</file>