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06AD-FEE9-4544-8755-37C2EC14B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BE2D-B814-4361-9791-0C13D01C5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AF0B-CC83-4E1A-A8FC-C47D38F8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3902-181B-40FF-AEE5-28B8E99F5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156A-8177-4DF4-AF9D-BD45FDBE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9F9A5-5424-4C25-93B8-41DF57E7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2B58-9BA3-4D4C-9172-D8C50261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8A0B-EE71-4C46-AA57-279406F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F1FC-B01D-415B-B024-7CDF54DE3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F3D0-81E2-4581-AA02-CD1F3EFA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B56A-B78B-4CF6-B3F4-FCE693B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5F85-8645-44A9-B200-9A7455ADB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03AE-F89E-4E51-B98B-5A5BD4BE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3171D-A347-452B-8F96-CFE683007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5D7-BC40-4236-BDB4-B519768C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53BB-8E9E-400D-83EB-B622D2230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4E5C-EF75-4AFF-BED3-97E8D256C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914-39F3-4ED6-AC76-70B0CCB4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8F03-8D14-484B-84D5-3766E13CA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74AF-2454-4C54-BF9D-98E5715A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7915-48A3-4372-9FFE-722AC745E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761E-4F78-4227-948F-64DEFA32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87A2-67F6-4E36-9B37-0B3FC05D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8DC3-E4F5-4518-BDE0-FE37B90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C17D-FEBF-4A8B-800C-341506163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A27B-28FC-450E-9FA9-B6A023B0AF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mice.com/home/chipmunk/chipmunk.jpg&amp;imgrefurl=http://www.matmice.com/home/chipmunk&amp;h=293&amp;w=196&amp;sz=10&amp;tbnid=m4owpwqExPIJ:&amp;tbnh=110&amp;tbnw=74&amp;start=7&amp;prev=/images%3Fq%3Dchipmunk%26hl%3Den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COLOGY NOTES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6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s are animals that cooperate to build nests, find food, take care of their young, and prote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rstrail" descr=""/>
          <p:cNvPicPr/>
          <p:nvPr/>
        </p:nvPicPr>
        <p:blipFill>
          <a:blip r:embed="rId1"/>
          <a:stretch/>
        </p:blipFill>
        <p:spPr>
          <a:xfrm>
            <a:off x="5183280" y="1981080"/>
            <a:ext cx="294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les help each other hunt by surrounding a school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some other ways animals coop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5372pod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6. </a:t>
            </a:r>
            <a:r>
              <a:rPr b="0" lang="en-US" sz="4400" spc="-1" strike="noStrike" u="sng">
                <a:solidFill>
                  <a:srgbClr val="3366ff"/>
                </a:solidFill>
                <a:uFillTx/>
                <a:latin typeface="Times New Roman"/>
              </a:rPr>
              <a:t>COEXISTENCE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ganisms live together in the same habitat without harming or helping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EXISTENCE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ke and a tur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pmunk and a 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13372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: Box Turtle Crawling on Ground"/>
          <p:cNvPicPr/>
          <p:nvPr/>
        </p:nvPicPr>
        <p:blipFill>
          <a:blip r:embed="rId2"/>
          <a:stretch/>
        </p:blipFill>
        <p:spPr>
          <a:xfrm>
            <a:off x="6477120" y="2057400"/>
            <a:ext cx="2392200" cy="186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6252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ould a chipmunk and a squirrel be an example of coexistenc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they would compete for the sam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22050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584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LIMITING FACTOR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condition that interferes with the growth or survival of an 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lack of food, water, shelter and sp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LIMITNG FACTOR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fish in a fish tank (lack of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owls and only 1 mouse (lack of 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660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8.  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COMPETITION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rm of conflict that may arise when organisms occupy a similar niche or need the same food, water, or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etition can take place between animals of the same species or different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MPETI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ls in the last picture fighting with each other for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munks and squirrels fighting over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32084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2857680" cy="19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254720" y="3962520"/>
            <a:ext cx="188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 COOPERATION-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together to help each other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operation takes place among animal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ame species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7:30Z</dcterms:created>
  <dc:creator>Amy Duff</dc:creator>
  <dc:description/>
  <dc:language>en-US</dc:language>
  <cp:lastModifiedBy>bfearns</cp:lastModifiedBy>
  <dcterms:modified xsi:type="dcterms:W3CDTF">2006-09-22T19:05:10Z</dcterms:modified>
  <cp:revision>5</cp:revision>
  <dc:subject/>
  <dc:title>ECOLOGY NOTES </dc:title>
</cp:coreProperties>
</file>